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media/image25.wmf" ContentType="image/x-wmf"/>
  <Override PartName="/ppt/media/image29.gif" ContentType="image/gif"/>
  <Override PartName="/ppt/media/image21.jpeg" ContentType="image/jpeg"/>
  <Override PartName="/ppt/media/image19.png" ContentType="image/png"/>
  <Override PartName="/ppt/media/image17.wmf" ContentType="image/x-wmf"/>
  <Override PartName="/ppt/media/image27.jpeg" ContentType="image/jpeg"/>
  <Override PartName="/ppt/media/image30.wmf" ContentType="image/x-wmf"/>
  <Override PartName="/ppt/media/image6.jpeg" ContentType="image/jpeg"/>
  <Override PartName="/ppt/media/image18.png" ContentType="image/png"/>
  <Override PartName="/ppt/media/image20.png" ContentType="image/png"/>
  <Override PartName="/ppt/media/image10.jpeg" ContentType="image/jpeg"/>
  <Override PartName="/ppt/media/image8.jpeg" ContentType="image/jpeg"/>
  <Override PartName="/ppt/media/image31.png" ContentType="image/png"/>
  <Override PartName="/ppt/media/image14.wmf" ContentType="image/x-wmf"/>
  <Override PartName="/ppt/media/image32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33.png" ContentType="image/png"/>
  <Override PartName="/ppt/media/image12.jpeg" ContentType="image/jpeg"/>
  <Override PartName="/ppt/media/image34.wmf" ContentType="image/x-wmf"/>
  <Override PartName="/ppt/media/image4.jpeg" ContentType="image/jpeg"/>
  <Override PartName="/ppt/media/image2.png" ContentType="image/png"/>
  <Override PartName="/ppt/media/image28.wmf" ContentType="image/x-wmf"/>
  <Override PartName="/ppt/media/image3.jpeg" ContentType="image/jpeg"/>
  <Override PartName="/ppt/media/image24.jpeg" ContentType="image/jpeg"/>
  <Override PartName="/ppt/media/image11.png" ContentType="image/png"/>
  <Override PartName="/ppt/media/image9.jpeg" ContentType="image/jpeg"/>
  <Override PartName="/ppt/media/image23.wmf" ContentType="image/x-wmf"/>
  <Override PartName="/ppt/media/image7.jpeg" ContentType="image/jpeg"/>
  <Override PartName="/ppt/media/image1.wmf" ContentType="image/x-wmf"/>
  <Override PartName="/ppt/media/image15.wmf" ContentType="image/x-wmf"/>
  <Override PartName="/ppt/media/image22.jpeg" ContentType="image/jpeg"/>
  <Override PartName="/ppt/media/image16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FB352-6E27-44EA-86F0-3DAF9FE0AA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1F89B-C1ED-41B7-8438-49B2010FC29D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13959-84C5-4213-9A57-8F6999A8DE7A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BB22E-CDDB-4F5C-8919-C517DD9EA630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5BBCE-0204-43CF-8675-B023C40635D9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5B7FA-21CE-437F-BE96-5B1A40D0B118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2695E-8090-4BE5-9F3A-18384145AE6B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09F6D-E22A-4D26-A40B-9F64C241FA4B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4E6B2-4C38-440A-995C-1DE93B0CF77E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2B125-AF74-4CE8-9A19-36547141AE5F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B649C-7052-4D76-9925-B0EB1EB8029B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56867-8A8A-4161-BE63-BF51760D90DA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B9172-CC0D-45D2-8A39-9CB5FAECA855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39721-A352-4248-8A46-109A1FECD1B2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ED106-B13E-4945-A56C-F2654AEFC43F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B1A4E-1ED6-47B5-A6DD-88BB66D13790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8AC3F-DBB2-4106-803B-60372DB05307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0E840-CF4F-4567-9BB4-FF3A83112CA5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FFF4E-1FDC-4858-BF69-5F270DC4C643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C6C07-7987-4DBD-9974-FD32E63E6F72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A3253-7416-4F1B-ACA6-1C47FC266888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2FB77-3B8F-418E-BFDC-8410F69AF0AB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6FDEC-429D-4414-A453-BB7EF8261AEE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DD797-32E9-4416-8BB3-993E10D2133C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00753-BFE0-40A5-AAD3-260ED5EF6E66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9D6BF-72DE-47B8-83B3-AE16DDB9E683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A2CF5-AF7A-49EF-B379-E73A679F0894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40A68-501F-4048-BCDE-EC2E14813563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6DCDB-0FE6-4D5F-9AE5-1111760AEAEB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B5CF4-A238-4EE4-B95E-F58CFD268F4F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C1F2F-28C4-4DD4-BA92-D8C8F5113B2A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95074-E987-41D0-A94C-52A6922A77AE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C3382-E118-45EE-93FA-8127A22E1E1A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85D95-27ED-4518-9DB1-3733D02E9C87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A6D3C-D5FE-4358-82B6-2305044A0109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3D7FC-BD87-4887-98BF-FC6ECDBDF768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53966-17BB-4AC5-9480-DDF66D55B1D5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EE4EF-8300-488E-8B16-19473D7351DB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599F2-BE78-4ED3-A4B9-A02F8AF121EC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03A4F-F978-4EC7-83F7-AD2E428CB0F7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A11C1-48DB-4087-9518-B513737394D7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48C3C-91CD-4428-8F82-5A50B5A16819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ADAA9-7CF9-4AEF-A01F-161BF62FA733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D3593-3190-45EB-9E41-A28CA4D6DBE5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C6057-8A0C-4F71-A327-1B9F638209D6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5CC39-E339-4C04-8A4C-E916171DA9A6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B216F-F91F-4713-A730-D06E743FA06B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36EA6-FF14-4CD0-8B26-22DF84E7D37C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EF02F-A01E-4DBE-9C28-12F859BF0E43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BAED1-9183-4DD1-AE22-1D012DCCEF7E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CB3AA-1344-464D-800A-66B96F6CA3B9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A9699-4549-47D8-94F8-2A788C4063F1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F60AF-DEA2-4775-91CA-68CD120556E5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B3607-C01E-4F14-A060-6774459475DB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301D2-71BF-4ADC-9F96-385A2FAA243D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86471-B765-4066-911E-67B489ABAD6B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6082B-29B7-40AA-BE37-1E6826D56105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99858-A336-4E9C-B73A-0683BB4344DA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0C76E-0C0F-444E-AFE0-10F60007481A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C5D6F-9D5E-4F7F-825E-BBDDC6A97381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9AE26-7166-4872-BB6E-B545A60F6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798C0-7C36-471C-A110-E163CBC81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25B9B-95AF-48B2-8433-C19896AA0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4C9E0-A8AC-405D-9D5A-F070D69C3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1F89E-4D2A-4A1E-97D8-8A222790C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0AB90-6C82-414D-B510-C924BB264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1B84B-180D-482C-BD40-82DE38C78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C8567-CFEC-4A02-9560-02DAC679A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25ABB-B340-4D51-AC7C-4DFD58563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FA7B0-AF53-4F0C-832F-4396A3596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C35B2-BB69-4247-8740-E22B54FC6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44FFF-E74A-47D1-B6A6-56D09BED1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609F0-BDBC-4923-B35D-9A5BCA9E4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04367-E634-4955-9A5E-DBABA2FAB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B6A41-D648-44C9-A15C-04139D2A2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08E44-3757-41C3-9F58-0AB679786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596A5-11A9-46D7-A647-795B40511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C0006A-34F8-4AFA-B0CA-39D329035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077215-565E-4F5F-8D27-791EEA78C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479268-9B67-4996-9089-637E34F0A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608276-7EB7-4317-B63B-D1D806E19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54903D-4869-41E0-B64A-778160A15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F53ED-7FE9-4343-AC36-CDE13785E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451A7E-CEB7-4058-8A82-502E99601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8C87A8-A011-400D-9E93-C550862AF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037F60-9EBC-4369-8DA5-2468D9E7D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943DF5-66D9-428E-A746-0093E661D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394518-D5C0-4F34-933B-81AA8A0B7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92DC82-62E3-4792-9476-EFD96DC3F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46A2D3-9EE7-49EB-A8CA-8D167439A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6EDC1-B4B7-4CD8-A998-29CD950F5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E7822-8A94-45AE-8506-BCE36141E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A3FCD-16E4-4C48-A97C-A49040A4A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39841-3B68-4B23-A320-F15CC6212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DC4AD-899A-4926-AB29-CA835CA7B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1FA17-24E4-4E40-8C61-70A1F7523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A78F1-D6D2-4D73-A765-A32E5A727B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0840" y="-86400"/>
            <a:ext cx="2428560" cy="2248560"/>
            <a:chOff x="7170840" y="-86400"/>
            <a:chExt cx="2428560" cy="224856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0840" y="-86400"/>
              <a:ext cx="2428560" cy="2248560"/>
              <a:chOff x="7170840" y="-86400"/>
              <a:chExt cx="2428560" cy="224856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0840" y="-86400"/>
                <a:ext cx="2428560" cy="2248560"/>
                <a:chOff x="7170840" y="-86400"/>
                <a:chExt cx="2428560" cy="224856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280" y="112680"/>
                  <a:ext cx="24336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7200" y="524520"/>
                  <a:ext cx="42768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5160" y="285840"/>
                  <a:ext cx="80316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2120" y="-28800"/>
                  <a:ext cx="120564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2480" y="1422360"/>
                  <a:ext cx="26856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64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64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7000" y="221760"/>
                  <a:ext cx="284400" cy="21924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pic>
        <p:nvPicPr>
          <p:cNvPr id="51" name="Picture 54" descr="j0233965[1]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7238880" y="5715000"/>
            <a:ext cx="1905120" cy="1143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611C8-4A16-4603-AE3C-8261C7E02C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30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31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2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3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34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35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6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7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8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9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140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141" name="Freeform 19"/>
            <p:cNvSpPr/>
            <p:nvPr/>
          </p:nvSpPr>
          <p:spPr>
            <a:xfrm rot="7320000">
              <a:off x="7791480" y="4661280"/>
              <a:ext cx="998640" cy="4640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2" name="Freeform 20"/>
            <p:cNvSpPr/>
            <p:nvPr/>
          </p:nvSpPr>
          <p:spPr>
            <a:xfrm rot="7320000">
              <a:off x="7767000" y="4639680"/>
              <a:ext cx="995400" cy="4593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3" name="Freeform 21"/>
            <p:cNvSpPr/>
            <p:nvPr/>
          </p:nvSpPr>
          <p:spPr>
            <a:xfrm rot="7320000">
              <a:off x="7935480" y="4625280"/>
              <a:ext cx="660240" cy="41976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44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45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6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7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8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9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50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2ACEE-2E68-49C4-AA1C-69299AC98A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hyperlink" Target="http://www.loudoun.k12.va.us/libraries/book_parts.gif" TargetMode="External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" Target="slide14.xml"/><Relationship Id="rId3" Type="http://schemas.openxmlformats.org/officeDocument/2006/relationships/slide" Target="slide13.xml"/><Relationship Id="rId4" Type="http://schemas.openxmlformats.org/officeDocument/2006/relationships/slide" Target="slide13.xml"/><Relationship Id="rId5" Type="http://schemas.openxmlformats.org/officeDocument/2006/relationships/oleObject" Target="../embeddings/oleObject1.bin"/><Relationship Id="rId6" Type="http://schemas.openxmlformats.org/officeDocument/2006/relationships/image" Target="../media/image14.wmf"/><Relationship Id="rId7" Type="http://schemas.openxmlformats.org/officeDocument/2006/relationships/image" Target="../media/image15.wm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loudoun.k12.va.us/libraries/book_parts.gif" TargetMode="External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6.jpeg"/><Relationship Id="rId3" Type="http://schemas.openxmlformats.org/officeDocument/2006/relationships/image" Target="../media/image16.jpeg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" Target="slide23.xml"/><Relationship Id="rId3" Type="http://schemas.openxmlformats.org/officeDocument/2006/relationships/slide" Target="slide22.xml"/><Relationship Id="rId4" Type="http://schemas.openxmlformats.org/officeDocument/2006/relationships/slide" Target="slide23.xml"/><Relationship Id="rId5" Type="http://schemas.openxmlformats.org/officeDocument/2006/relationships/slide" Target="slide23.xml"/><Relationship Id="rId6" Type="http://schemas.openxmlformats.org/officeDocument/2006/relationships/slide" Target="slide22.xm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2.jpeg"/><Relationship Id="rId3" Type="http://schemas.openxmlformats.org/officeDocument/2006/relationships/image" Target="../media/image22.jpeg"/><Relationship Id="rId4" Type="http://schemas.openxmlformats.org/officeDocument/2006/relationships/image" Target="../media/image23.wmf"/><Relationship Id="rId5" Type="http://schemas.openxmlformats.org/officeDocument/2006/relationships/slide" Target="slide24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slide" Target="slide28.xml"/><Relationship Id="rId3" Type="http://schemas.openxmlformats.org/officeDocument/2006/relationships/slide" Target="slide28.xml"/><Relationship Id="rId4" Type="http://schemas.openxmlformats.org/officeDocument/2006/relationships/slide" Target="slide27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0.jpeg"/><Relationship Id="rId5" Type="http://schemas.openxmlformats.org/officeDocument/2006/relationships/slide" Target="slide29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26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30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32.xml"/><Relationship Id="rId2" Type="http://schemas.openxmlformats.org/officeDocument/2006/relationships/slide" Target="slide35.xml"/><Relationship Id="rId3" Type="http://schemas.openxmlformats.org/officeDocument/2006/relationships/slide" Target="slide35.xml"/><Relationship Id="rId4" Type="http://schemas.openxmlformats.org/officeDocument/2006/relationships/slide" Target="slide35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" Target="slide33.xm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36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slide31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slide41.xml"/><Relationship Id="rId2" Type="http://schemas.openxmlformats.org/officeDocument/2006/relationships/slide" Target="slide42.xml"/><Relationship Id="rId3" Type="http://schemas.openxmlformats.org/officeDocument/2006/relationships/slide" Target="slide41.xml"/><Relationship Id="rId4" Type="http://schemas.openxmlformats.org/officeDocument/2006/relationships/slide" Target="slide41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9.gif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jpeg"/><Relationship Id="rId3" Type="http://schemas.openxmlformats.org/officeDocument/2006/relationships/image" Target="../media/image33.png"/><Relationship Id="rId4" Type="http://schemas.openxmlformats.org/officeDocument/2006/relationships/image" Target="../media/image3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image" Target="../media/image9.jpeg"/><Relationship Id="rId3" Type="http://schemas.openxmlformats.org/officeDocument/2006/relationships/slide" Target="slide8.xml"/><Relationship Id="rId4" Type="http://schemas.openxmlformats.org/officeDocument/2006/relationships/slide" Target="slide8.xml"/><Relationship Id="rId5" Type="http://schemas.openxmlformats.org/officeDocument/2006/relationships/slide" Target="slide9.xml"/><Relationship Id="rId6" Type="http://schemas.openxmlformats.org/officeDocument/2006/relationships/slide" Target="slide8.xml"/><Relationship Id="rId7" Type="http://schemas.openxmlformats.org/officeDocument/2006/relationships/slide" Target="slide9.xml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1E11D14A.WAV" descr=""/>
          <p:cNvPicPr/>
          <p:nvPr/>
        </p:nvPicPr>
        <p:blipFill>
          <a:blip r:embed="rId1"/>
          <a:stretch/>
        </p:blipFill>
        <p:spPr>
          <a:xfrm>
            <a:off x="4419720" y="57913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201" name="AutoShape 7">
            <a:hlinkClick r:id="" action="ppaction://hlinkshowjump?jump=nextslide"/>
          </p:cNvPr>
          <p:cNvSpPr/>
          <p:nvPr/>
        </p:nvSpPr>
        <p:spPr>
          <a:xfrm>
            <a:off x="4038480" y="5562720"/>
            <a:ext cx="1295640" cy="914400"/>
          </a:xfrm>
          <a:custGeom>
            <a:avLst/>
            <a:gdLst>
              <a:gd name="textAreaLeft" fmla="*/ 59040 w 1295640"/>
              <a:gd name="textAreaRight" fmla="*/ 1236600 w 129564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0602" h="21600">
                <a:moveTo>
                  <a:pt x="0" y="0"/>
                </a:moveTo>
                <a:lnTo>
                  <a:pt x="30602" y="0"/>
                </a:lnTo>
                <a:lnTo>
                  <a:pt x="30602" y="21600"/>
                </a:lnTo>
                <a:lnTo>
                  <a:pt x="0" y="21600"/>
                </a:lnTo>
                <a:close/>
              </a:path>
              <a:path fill="lightenLess" w="30602" h="21600">
                <a:moveTo>
                  <a:pt x="0" y="0"/>
                </a:moveTo>
                <a:lnTo>
                  <a:pt x="30602" y="0"/>
                </a:lnTo>
                <a:lnTo>
                  <a:pt x="29202" y="1400"/>
                </a:lnTo>
                <a:lnTo>
                  <a:pt x="1400" y="1400"/>
                </a:lnTo>
                <a:close/>
              </a:path>
              <a:path fill="darken" w="30602" h="21600">
                <a:moveTo>
                  <a:pt x="30602" y="0"/>
                </a:moveTo>
                <a:lnTo>
                  <a:pt x="30602" y="21600"/>
                </a:lnTo>
                <a:lnTo>
                  <a:pt x="29202" y="20200"/>
                </a:lnTo>
                <a:lnTo>
                  <a:pt x="29202" y="1400"/>
                </a:lnTo>
                <a:close/>
              </a:path>
              <a:path fill="darkenLess" w="30602" h="21600">
                <a:moveTo>
                  <a:pt x="306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202" y="20200"/>
                </a:lnTo>
                <a:close/>
              </a:path>
              <a:path fill="lighten" w="306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602" h="21600">
                <a:moveTo>
                  <a:pt x="8295" y="3794"/>
                </a:moveTo>
                <a:lnTo>
                  <a:pt x="22308" y="10800"/>
                </a:lnTo>
                <a:lnTo>
                  <a:pt x="8295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71600" y="2057040"/>
            <a:ext cx="6477120" cy="1981080"/>
          </a:xfrm>
          <a:prstGeom prst="rect">
            <a:avLst/>
          </a:prstGeom>
          <a:noFill/>
          <a:ln w="0">
            <a:noFill/>
          </a:ln>
          <a:effectLst>
            <a:outerShdw dist="46745" dir="2116872" blurRad="0" rotWithShape="0">
              <a:srgbClr val="ffb800">
                <a:alpha val="75000"/>
              </a:srgbClr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703dff"/>
                </a:solidFill>
                <a:latin typeface="Comic Sans MS"/>
              </a:rPr>
              <a:t>Learn the Library!</a:t>
            </a:r>
            <a:br>
              <a:rPr sz="6600"/>
            </a:b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Rectangle 4"/>
          <p:cNvSpPr/>
          <p:nvPr/>
        </p:nvSpPr>
        <p:spPr>
          <a:xfrm>
            <a:off x="1523880" y="4038480"/>
            <a:ext cx="603252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cover of a book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7720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cover is the outside of a book.  There is usually a front cover,  a back cover, and the part in between them called the spin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48" name="21391CAC.WAV" descr=""/>
          <p:cNvPicPr/>
          <p:nvPr/>
        </p:nvPicPr>
        <p:blipFill>
          <a:blip r:embed="rId1"/>
          <a:stretch/>
        </p:blipFill>
        <p:spPr>
          <a:xfrm>
            <a:off x="6343560" y="25527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49" name="A7748ABF.WAV" descr=""/>
          <p:cNvPicPr/>
          <p:nvPr/>
        </p:nvPicPr>
        <p:blipFill>
          <a:blip r:embed="rId2"/>
          <a:stretch/>
        </p:blipFill>
        <p:spPr>
          <a:xfrm>
            <a:off x="4191120" y="60958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15" descr="book_parts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952880" y="2057400"/>
            <a:ext cx="3105360" cy="3352680"/>
          </a:xfrm>
          <a:prstGeom prst="rect">
            <a:avLst/>
          </a:prstGeom>
          <a:ln w="0">
            <a:noFill/>
          </a:ln>
        </p:spPr>
      </p:pic>
      <p:sp>
        <p:nvSpPr>
          <p:cNvPr id="251" name="AutoShape 16">
            <a:hlinkClick r:id="" action="ppaction://hlinkshowjump?jump=nextslide"/>
          </p:cNvPr>
          <p:cNvSpPr/>
          <p:nvPr/>
        </p:nvSpPr>
        <p:spPr>
          <a:xfrm>
            <a:off x="3809880" y="556272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6" h="21600">
                <a:moveTo>
                  <a:pt x="9191" y="3794"/>
                </a:moveTo>
                <a:lnTo>
                  <a:pt x="23204" y="10800"/>
                </a:lnTo>
                <a:lnTo>
                  <a:pt x="9191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" name="Text Box 17"/>
          <p:cNvSpPr/>
          <p:nvPr/>
        </p:nvSpPr>
        <p:spPr>
          <a:xfrm>
            <a:off x="5944320" y="2708280"/>
            <a:ext cx="816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ront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ve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Text Box 18"/>
          <p:cNvSpPr/>
          <p:nvPr/>
        </p:nvSpPr>
        <p:spPr>
          <a:xfrm>
            <a:off x="5410080" y="2971800"/>
            <a:ext cx="1843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pin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" name="Text Box 19"/>
          <p:cNvSpPr/>
          <p:nvPr/>
        </p:nvSpPr>
        <p:spPr>
          <a:xfrm>
            <a:off x="5965920" y="1981080"/>
            <a:ext cx="81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age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Here</a:t>
            </a:r>
            <a:r>
              <a:rPr b="0" lang="ja-JP" sz="4000" spc="-1" strike="noStrike">
                <a:solidFill>
                  <a:srgbClr val="000000"/>
                </a:solidFill>
                <a:latin typeface="Comic Sans MS"/>
              </a:rPr>
              <a:t>’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s the cover of some picture books that are very popular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56" name="Picture 5" descr="olivia"/>
          <p:cNvPicPr/>
          <p:nvPr/>
        </p:nvPicPr>
        <p:blipFill>
          <a:blip r:embed="rId1"/>
          <a:stretch/>
        </p:blipFill>
        <p:spPr>
          <a:xfrm>
            <a:off x="1536840" y="2286000"/>
            <a:ext cx="2070000" cy="2743200"/>
          </a:xfrm>
          <a:prstGeom prst="rect">
            <a:avLst/>
          </a:prstGeom>
          <a:ln w="0">
            <a:noFill/>
          </a:ln>
        </p:spPr>
      </p:pic>
      <p:sp>
        <p:nvSpPr>
          <p:cNvPr id="257" name="AutoShape 6">
            <a:hlinkClick r:id="" action="ppaction://hlinkshowjump?jump=nextslide"/>
          </p:cNvPr>
          <p:cNvSpPr/>
          <p:nvPr/>
        </p:nvSpPr>
        <p:spPr>
          <a:xfrm>
            <a:off x="3124080" y="5715000"/>
            <a:ext cx="2109960" cy="1143000"/>
          </a:xfrm>
          <a:custGeom>
            <a:avLst/>
            <a:gdLst>
              <a:gd name="textAreaLeft" fmla="*/ 73800 w 2109960"/>
              <a:gd name="textAreaRight" fmla="*/ 2036160 w 21099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9868" h="21600">
                <a:moveTo>
                  <a:pt x="0" y="0"/>
                </a:moveTo>
                <a:lnTo>
                  <a:pt x="39868" y="0"/>
                </a:lnTo>
                <a:lnTo>
                  <a:pt x="39868" y="21600"/>
                </a:lnTo>
                <a:lnTo>
                  <a:pt x="0" y="21600"/>
                </a:lnTo>
                <a:close/>
              </a:path>
              <a:path fill="lightenLess" w="39868" h="21600">
                <a:moveTo>
                  <a:pt x="0" y="0"/>
                </a:moveTo>
                <a:lnTo>
                  <a:pt x="39868" y="0"/>
                </a:lnTo>
                <a:lnTo>
                  <a:pt x="38468" y="1400"/>
                </a:lnTo>
                <a:lnTo>
                  <a:pt x="1400" y="1400"/>
                </a:lnTo>
                <a:close/>
              </a:path>
              <a:path fill="darken" w="39868" h="21600">
                <a:moveTo>
                  <a:pt x="39868" y="0"/>
                </a:moveTo>
                <a:lnTo>
                  <a:pt x="39868" y="21600"/>
                </a:lnTo>
                <a:lnTo>
                  <a:pt x="38468" y="20200"/>
                </a:lnTo>
                <a:lnTo>
                  <a:pt x="38468" y="1400"/>
                </a:lnTo>
                <a:close/>
              </a:path>
              <a:path fill="darkenLess" w="39868" h="21600">
                <a:moveTo>
                  <a:pt x="398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468" y="20200"/>
                </a:lnTo>
                <a:close/>
              </a:path>
              <a:path fill="lighten" w="398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868" h="21600">
                <a:moveTo>
                  <a:pt x="12927" y="3794"/>
                </a:moveTo>
                <a:lnTo>
                  <a:pt x="26940" y="10800"/>
                </a:lnTo>
                <a:lnTo>
                  <a:pt x="12927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58" name="Picture 10" descr="043935806X"/>
          <p:cNvPicPr/>
          <p:nvPr/>
        </p:nvPicPr>
        <p:blipFill>
          <a:blip r:embed="rId2"/>
          <a:stretch/>
        </p:blipFill>
        <p:spPr>
          <a:xfrm>
            <a:off x="5029200" y="2286000"/>
            <a:ext cx="18144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part is the cover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 cover is inside the book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 cover is the outside of the book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 cover is in the back of the book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 cover is the wrapping on the book at the stor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09800" y="1828800"/>
            <a:ext cx="37717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" name="AutoShape 10">
            <a:hlinkClick r:id="rId1" action="ppaction://hlinksldjump"/>
          </p:cNvPr>
          <p:cNvSpPr/>
          <p:nvPr/>
        </p:nvSpPr>
        <p:spPr>
          <a:xfrm>
            <a:off x="1066680" y="1905120"/>
            <a:ext cx="2895840" cy="457200"/>
          </a:xfrm>
          <a:custGeom>
            <a:avLst/>
            <a:gdLst>
              <a:gd name="textAreaLeft" fmla="*/ 29520 w 2895840"/>
              <a:gd name="textAreaRight" fmla="*/ 2866320 w 28958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136721" h="21600">
                <a:moveTo>
                  <a:pt x="0" y="0"/>
                </a:moveTo>
                <a:lnTo>
                  <a:pt x="136721" y="0"/>
                </a:lnTo>
                <a:lnTo>
                  <a:pt x="136721" y="21600"/>
                </a:lnTo>
                <a:lnTo>
                  <a:pt x="0" y="21600"/>
                </a:lnTo>
                <a:close/>
              </a:path>
              <a:path fill="lightenLess" w="136721" h="21600">
                <a:moveTo>
                  <a:pt x="0" y="0"/>
                </a:moveTo>
                <a:lnTo>
                  <a:pt x="136721" y="0"/>
                </a:lnTo>
                <a:lnTo>
                  <a:pt x="135321" y="1400"/>
                </a:lnTo>
                <a:lnTo>
                  <a:pt x="1400" y="1400"/>
                </a:lnTo>
                <a:close/>
              </a:path>
              <a:path fill="darken" w="136721" h="21600">
                <a:moveTo>
                  <a:pt x="136721" y="0"/>
                </a:moveTo>
                <a:lnTo>
                  <a:pt x="136721" y="21600"/>
                </a:lnTo>
                <a:lnTo>
                  <a:pt x="135321" y="20200"/>
                </a:lnTo>
                <a:lnTo>
                  <a:pt x="135321" y="1400"/>
                </a:lnTo>
                <a:close/>
              </a:path>
              <a:path fill="darkenLess" w="136721" h="21600">
                <a:moveTo>
                  <a:pt x="1367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5321" y="20200"/>
                </a:lnTo>
                <a:close/>
              </a:path>
              <a:path fill="lighten" w="1367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" name="AutoShape 11">
            <a:hlinkClick r:id="rId2" action="ppaction://hlinksldjump"/>
          </p:cNvPr>
          <p:cNvSpPr/>
          <p:nvPr/>
        </p:nvSpPr>
        <p:spPr>
          <a:xfrm>
            <a:off x="1143000" y="2819520"/>
            <a:ext cx="2895480" cy="457200"/>
          </a:xfrm>
          <a:custGeom>
            <a:avLst/>
            <a:gdLst>
              <a:gd name="textAreaLeft" fmla="*/ 29520 w 2895480"/>
              <a:gd name="textAreaRight" fmla="*/ 2865960 w 2895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136704" h="21600">
                <a:moveTo>
                  <a:pt x="0" y="0"/>
                </a:moveTo>
                <a:lnTo>
                  <a:pt x="136704" y="0"/>
                </a:lnTo>
                <a:lnTo>
                  <a:pt x="136704" y="21600"/>
                </a:lnTo>
                <a:lnTo>
                  <a:pt x="0" y="21600"/>
                </a:lnTo>
                <a:close/>
              </a:path>
              <a:path fill="lightenLess" w="136704" h="21600">
                <a:moveTo>
                  <a:pt x="0" y="0"/>
                </a:moveTo>
                <a:lnTo>
                  <a:pt x="136704" y="0"/>
                </a:lnTo>
                <a:lnTo>
                  <a:pt x="135304" y="1400"/>
                </a:lnTo>
                <a:lnTo>
                  <a:pt x="1400" y="1400"/>
                </a:lnTo>
                <a:close/>
              </a:path>
              <a:path fill="darken" w="136704" h="21600">
                <a:moveTo>
                  <a:pt x="136704" y="0"/>
                </a:moveTo>
                <a:lnTo>
                  <a:pt x="136704" y="21600"/>
                </a:lnTo>
                <a:lnTo>
                  <a:pt x="135304" y="20200"/>
                </a:lnTo>
                <a:lnTo>
                  <a:pt x="135304" y="1400"/>
                </a:lnTo>
                <a:close/>
              </a:path>
              <a:path fill="darkenLess" w="136704" h="21600">
                <a:moveTo>
                  <a:pt x="1367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5304" y="20200"/>
                </a:lnTo>
                <a:close/>
              </a:path>
              <a:path fill="lighten" w="1367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" name="AutoShape 12">
            <a:hlinkClick r:id="rId3" action="ppaction://hlinksldjump"/>
          </p:cNvPr>
          <p:cNvSpPr/>
          <p:nvPr/>
        </p:nvSpPr>
        <p:spPr>
          <a:xfrm>
            <a:off x="1066680" y="3657600"/>
            <a:ext cx="3048120" cy="533520"/>
          </a:xfrm>
          <a:custGeom>
            <a:avLst/>
            <a:gdLst>
              <a:gd name="textAreaLeft" fmla="*/ 34560 w 3048120"/>
              <a:gd name="textAreaRight" fmla="*/ 3013560 w 30481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123337" h="21600">
                <a:moveTo>
                  <a:pt x="0" y="0"/>
                </a:moveTo>
                <a:lnTo>
                  <a:pt x="123337" y="0"/>
                </a:lnTo>
                <a:lnTo>
                  <a:pt x="123337" y="21600"/>
                </a:lnTo>
                <a:lnTo>
                  <a:pt x="0" y="21600"/>
                </a:lnTo>
                <a:close/>
              </a:path>
              <a:path fill="lightenLess" w="123337" h="21600">
                <a:moveTo>
                  <a:pt x="0" y="0"/>
                </a:moveTo>
                <a:lnTo>
                  <a:pt x="123337" y="0"/>
                </a:lnTo>
                <a:lnTo>
                  <a:pt x="121937" y="1400"/>
                </a:lnTo>
                <a:lnTo>
                  <a:pt x="1400" y="1400"/>
                </a:lnTo>
                <a:close/>
              </a:path>
              <a:path fill="darken" w="123337" h="21600">
                <a:moveTo>
                  <a:pt x="123337" y="0"/>
                </a:moveTo>
                <a:lnTo>
                  <a:pt x="123337" y="21600"/>
                </a:lnTo>
                <a:lnTo>
                  <a:pt x="121937" y="20200"/>
                </a:lnTo>
                <a:lnTo>
                  <a:pt x="121937" y="1400"/>
                </a:lnTo>
                <a:close/>
              </a:path>
              <a:path fill="darkenLess" w="123337" h="21600">
                <a:moveTo>
                  <a:pt x="1233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1937" y="20200"/>
                </a:lnTo>
                <a:close/>
              </a:path>
              <a:path fill="lighten" w="1233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" name="AutoShape 13">
            <a:hlinkClick r:id="rId4" action="ppaction://hlinksldjump"/>
          </p:cNvPr>
          <p:cNvSpPr/>
          <p:nvPr/>
        </p:nvSpPr>
        <p:spPr>
          <a:xfrm>
            <a:off x="1143000" y="4648320"/>
            <a:ext cx="2819520" cy="457200"/>
          </a:xfrm>
          <a:custGeom>
            <a:avLst/>
            <a:gdLst>
              <a:gd name="textAreaLeft" fmla="*/ 29520 w 2819520"/>
              <a:gd name="textAreaRight" fmla="*/ 2790000 w 2819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133118" h="21600">
                <a:moveTo>
                  <a:pt x="0" y="0"/>
                </a:moveTo>
                <a:lnTo>
                  <a:pt x="133118" y="0"/>
                </a:lnTo>
                <a:lnTo>
                  <a:pt x="133118" y="21600"/>
                </a:lnTo>
                <a:lnTo>
                  <a:pt x="0" y="21600"/>
                </a:lnTo>
                <a:close/>
              </a:path>
              <a:path fill="lightenLess" w="133118" h="21600">
                <a:moveTo>
                  <a:pt x="0" y="0"/>
                </a:moveTo>
                <a:lnTo>
                  <a:pt x="133118" y="0"/>
                </a:lnTo>
                <a:lnTo>
                  <a:pt x="131718" y="1400"/>
                </a:lnTo>
                <a:lnTo>
                  <a:pt x="1400" y="1400"/>
                </a:lnTo>
                <a:close/>
              </a:path>
              <a:path fill="darken" w="133118" h="21600">
                <a:moveTo>
                  <a:pt x="133118" y="0"/>
                </a:moveTo>
                <a:lnTo>
                  <a:pt x="133118" y="21600"/>
                </a:lnTo>
                <a:lnTo>
                  <a:pt x="131718" y="20200"/>
                </a:lnTo>
                <a:lnTo>
                  <a:pt x="131718" y="1400"/>
                </a:lnTo>
                <a:close/>
              </a:path>
              <a:path fill="darkenLess" w="133118" h="21600">
                <a:moveTo>
                  <a:pt x="1331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1718" y="20200"/>
                </a:lnTo>
                <a:close/>
              </a:path>
              <a:path fill="lighten" w="1331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66" name="Object 2"/>
          <p:cNvGraphicFramePr/>
          <p:nvPr/>
        </p:nvGraphicFramePr>
        <p:xfrm>
          <a:off x="5181480" y="2133720"/>
          <a:ext cx="2428920" cy="2971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67" name="Object 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181480" y="2133720"/>
                    <a:ext cx="242892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68" name="Picture 15" descr="j0216986[1]"/>
          <p:cNvPicPr/>
          <p:nvPr/>
        </p:nvPicPr>
        <p:blipFill>
          <a:blip r:embed="rId7"/>
          <a:stretch/>
        </p:blipFill>
        <p:spPr>
          <a:xfrm>
            <a:off x="5105520" y="2133720"/>
            <a:ext cx="1981080" cy="2971800"/>
          </a:xfrm>
          <a:prstGeom prst="rect">
            <a:avLst/>
          </a:prstGeom>
          <a:ln w="0">
            <a:noFill/>
          </a:ln>
        </p:spPr>
      </p:pic>
      <p:sp>
        <p:nvSpPr>
          <p:cNvPr id="269" name="AutoShape 16">
            <a:hlinkClick r:id="" action="ppaction://hlinkshowjump?jump=nextslide"/>
          </p:cNvPr>
          <p:cNvSpPr/>
          <p:nvPr/>
        </p:nvSpPr>
        <p:spPr>
          <a:xfrm>
            <a:off x="3962520" y="5562720"/>
            <a:ext cx="1500120" cy="914400"/>
          </a:xfrm>
          <a:custGeom>
            <a:avLst/>
            <a:gdLst>
              <a:gd name="textAreaLeft" fmla="*/ 59040 w 1500120"/>
              <a:gd name="textAreaRight" fmla="*/ 1441080 w 15001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5430" h="21600">
                <a:moveTo>
                  <a:pt x="0" y="0"/>
                </a:moveTo>
                <a:lnTo>
                  <a:pt x="35430" y="0"/>
                </a:lnTo>
                <a:lnTo>
                  <a:pt x="35430" y="21600"/>
                </a:lnTo>
                <a:lnTo>
                  <a:pt x="0" y="21600"/>
                </a:lnTo>
                <a:close/>
              </a:path>
              <a:path fill="lightenLess" w="35430" h="21600">
                <a:moveTo>
                  <a:pt x="0" y="0"/>
                </a:moveTo>
                <a:lnTo>
                  <a:pt x="35430" y="0"/>
                </a:lnTo>
                <a:lnTo>
                  <a:pt x="34030" y="1400"/>
                </a:lnTo>
                <a:lnTo>
                  <a:pt x="1400" y="1400"/>
                </a:lnTo>
                <a:close/>
              </a:path>
              <a:path fill="darken" w="35430" h="21600">
                <a:moveTo>
                  <a:pt x="35430" y="0"/>
                </a:moveTo>
                <a:lnTo>
                  <a:pt x="35430" y="21600"/>
                </a:lnTo>
                <a:lnTo>
                  <a:pt x="34030" y="20200"/>
                </a:lnTo>
                <a:lnTo>
                  <a:pt x="34030" y="1400"/>
                </a:lnTo>
                <a:close/>
              </a:path>
              <a:path fill="darkenLess" w="35430" h="21600">
                <a:moveTo>
                  <a:pt x="354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030" y="20200"/>
                </a:lnTo>
                <a:close/>
              </a:path>
              <a:path fill="lighten" w="354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430" h="21600">
                <a:moveTo>
                  <a:pt x="10709" y="3794"/>
                </a:moveTo>
                <a:lnTo>
                  <a:pt x="24722" y="10800"/>
                </a:lnTo>
                <a:lnTo>
                  <a:pt x="10709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OOPS!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Read this again . . .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cover is the outside of a book.  There is usually a front cover,  a back cover, and the part in between them called the spin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72" name="21391CAC.WAV" descr=""/>
          <p:cNvPicPr/>
          <p:nvPr/>
        </p:nvPicPr>
        <p:blipFill>
          <a:blip r:embed="rId1"/>
          <a:stretch/>
        </p:blipFill>
        <p:spPr>
          <a:xfrm>
            <a:off x="6343560" y="25527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6" descr="book_parts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029200" y="2057400"/>
            <a:ext cx="3105000" cy="3352680"/>
          </a:xfrm>
          <a:prstGeom prst="rect">
            <a:avLst/>
          </a:prstGeom>
          <a:ln w="0">
            <a:noFill/>
          </a:ln>
        </p:spPr>
      </p:pic>
      <p:sp>
        <p:nvSpPr>
          <p:cNvPr id="274" name="AutoShape 11">
            <a:hlinkClick r:id="" action="ppaction://hlinkshowjump?jump=previousslide"/>
          </p:cNvPr>
          <p:cNvSpPr/>
          <p:nvPr/>
        </p:nvSpPr>
        <p:spPr>
          <a:xfrm>
            <a:off x="4114800" y="5562720"/>
            <a:ext cx="1447920" cy="838080"/>
          </a:xfrm>
          <a:custGeom>
            <a:avLst/>
            <a:gdLst>
              <a:gd name="textAreaLeft" fmla="*/ 54000 w 1447920"/>
              <a:gd name="textAreaRight" fmla="*/ 1393920 w 14479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7311" h="21600">
                <a:moveTo>
                  <a:pt x="0" y="0"/>
                </a:moveTo>
                <a:lnTo>
                  <a:pt x="37311" y="0"/>
                </a:lnTo>
                <a:lnTo>
                  <a:pt x="37311" y="21600"/>
                </a:lnTo>
                <a:lnTo>
                  <a:pt x="0" y="21600"/>
                </a:lnTo>
                <a:close/>
              </a:path>
              <a:path fill="lightenLess" w="37311" h="21600">
                <a:moveTo>
                  <a:pt x="0" y="0"/>
                </a:moveTo>
                <a:lnTo>
                  <a:pt x="37311" y="0"/>
                </a:lnTo>
                <a:lnTo>
                  <a:pt x="35911" y="1400"/>
                </a:lnTo>
                <a:lnTo>
                  <a:pt x="1400" y="1400"/>
                </a:lnTo>
                <a:close/>
              </a:path>
              <a:path fill="darken" w="37311" h="21600">
                <a:moveTo>
                  <a:pt x="37311" y="0"/>
                </a:moveTo>
                <a:lnTo>
                  <a:pt x="37311" y="21600"/>
                </a:lnTo>
                <a:lnTo>
                  <a:pt x="35911" y="20200"/>
                </a:lnTo>
                <a:lnTo>
                  <a:pt x="35911" y="1400"/>
                </a:lnTo>
                <a:close/>
              </a:path>
              <a:path fill="darkenLess" w="37311" h="21600">
                <a:moveTo>
                  <a:pt x="373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911" y="20200"/>
                </a:lnTo>
                <a:close/>
              </a:path>
              <a:path fill="lighten" w="373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311" h="21600">
                <a:moveTo>
                  <a:pt x="11649" y="10800"/>
                </a:moveTo>
                <a:lnTo>
                  <a:pt x="25662" y="3794"/>
                </a:lnTo>
                <a:lnTo>
                  <a:pt x="25662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5" name="Text Box 12"/>
          <p:cNvSpPr/>
          <p:nvPr/>
        </p:nvSpPr>
        <p:spPr>
          <a:xfrm>
            <a:off x="6039360" y="2936880"/>
            <a:ext cx="85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ve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front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" name="Text Box 14"/>
          <p:cNvSpPr/>
          <p:nvPr/>
        </p:nvSpPr>
        <p:spPr>
          <a:xfrm>
            <a:off x="5562720" y="2514600"/>
            <a:ext cx="228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pin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9710692F.WAV" descr=""/>
          <p:cNvPicPr/>
          <p:nvPr/>
        </p:nvPicPr>
        <p:blipFill>
          <a:blip r:embed="rId1"/>
          <a:stretch/>
        </p:blipFill>
        <p:spPr>
          <a:xfrm>
            <a:off x="2819520" y="320040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>
                <a:alpha val="75000"/>
              </a:srgbClr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dff"/>
                </a:solidFill>
                <a:latin typeface="Comic Sans MS"/>
              </a:rPr>
              <a:t>Hurray!  That’s it!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79" name="Picture 24" descr="toptxtr"/>
          <p:cNvPicPr/>
          <p:nvPr/>
        </p:nvPicPr>
        <p:blipFill>
          <a:blip r:embed="rId2"/>
          <a:stretch/>
        </p:blipFill>
        <p:spPr>
          <a:xfrm>
            <a:off x="1936800" y="2070000"/>
            <a:ext cx="1270080" cy="1270080"/>
          </a:xfrm>
          <a:prstGeom prst="rect">
            <a:avLst/>
          </a:prstGeom>
          <a:ln w="0">
            <a:noFill/>
          </a:ln>
        </p:spPr>
      </p:pic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609800" y="1828800"/>
            <a:ext cx="3771720" cy="36576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3600" spc="-1" strike="noStrike">
                <a:solidFill>
                  <a:srgbClr val="00ff00"/>
                </a:solidFill>
                <a:latin typeface="Comic Sans MS"/>
              </a:rPr>
              <a:t>You answered</a:t>
            </a:r>
            <a:br>
              <a:rPr sz="3600"/>
            </a:br>
            <a:r>
              <a:rPr b="0" lang="en-US" sz="3600" spc="-1" strike="noStrike">
                <a:solidFill>
                  <a:srgbClr val="00ff00"/>
                </a:solidFill>
                <a:latin typeface="Comic Sans MS"/>
              </a:rPr>
              <a:t>correctly.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en-US" sz="4000" spc="-1" strike="noStrike">
                <a:solidFill>
                  <a:srgbClr val="00b200"/>
                </a:solidFill>
                <a:latin typeface="Comic Sans MS"/>
              </a:rPr>
              <a:t>Good job!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1" name="Rectangle 23"/>
          <p:cNvSpPr/>
          <p:nvPr/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82" name="Picture 25" descr="toptxtr"/>
          <p:cNvPicPr/>
          <p:nvPr/>
        </p:nvPicPr>
        <p:blipFill>
          <a:blip r:embed="rId3"/>
          <a:stretch/>
        </p:blipFill>
        <p:spPr>
          <a:xfrm>
            <a:off x="1905120" y="2819520"/>
            <a:ext cx="1269720" cy="198108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26" descr="j0300221[1]"/>
          <p:cNvPicPr/>
          <p:nvPr/>
        </p:nvPicPr>
        <p:blipFill>
          <a:blip r:embed="rId4"/>
          <a:stretch/>
        </p:blipFill>
        <p:spPr>
          <a:xfrm>
            <a:off x="1981080" y="2362320"/>
            <a:ext cx="1905120" cy="2666880"/>
          </a:xfrm>
          <a:prstGeom prst="rect">
            <a:avLst/>
          </a:prstGeom>
          <a:ln w="0">
            <a:noFill/>
          </a:ln>
        </p:spPr>
      </p:pic>
      <p:sp>
        <p:nvSpPr>
          <p:cNvPr id="284" name="AutoShape 29">
            <a:hlinkClick r:id="" action="ppaction://hlinkshowjump?jump=nextslide"/>
          </p:cNvPr>
          <p:cNvSpPr/>
          <p:nvPr/>
        </p:nvSpPr>
        <p:spPr>
          <a:xfrm>
            <a:off x="3886200" y="5638680"/>
            <a:ext cx="1805040" cy="838440"/>
          </a:xfrm>
          <a:custGeom>
            <a:avLst/>
            <a:gdLst>
              <a:gd name="textAreaLeft" fmla="*/ 54360 w 1805040"/>
              <a:gd name="textAreaRight" fmla="*/ 1750680 w 180504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46491" h="21600">
                <a:moveTo>
                  <a:pt x="0" y="0"/>
                </a:moveTo>
                <a:lnTo>
                  <a:pt x="46491" y="0"/>
                </a:lnTo>
                <a:lnTo>
                  <a:pt x="46491" y="21600"/>
                </a:lnTo>
                <a:lnTo>
                  <a:pt x="0" y="21600"/>
                </a:lnTo>
                <a:close/>
              </a:path>
              <a:path fill="lightenLess" w="46491" h="21600">
                <a:moveTo>
                  <a:pt x="0" y="0"/>
                </a:moveTo>
                <a:lnTo>
                  <a:pt x="46491" y="0"/>
                </a:lnTo>
                <a:lnTo>
                  <a:pt x="45091" y="1400"/>
                </a:lnTo>
                <a:lnTo>
                  <a:pt x="1400" y="1400"/>
                </a:lnTo>
                <a:close/>
              </a:path>
              <a:path fill="darken" w="46491" h="21600">
                <a:moveTo>
                  <a:pt x="46491" y="0"/>
                </a:moveTo>
                <a:lnTo>
                  <a:pt x="46491" y="21600"/>
                </a:lnTo>
                <a:lnTo>
                  <a:pt x="45091" y="20200"/>
                </a:lnTo>
                <a:lnTo>
                  <a:pt x="45091" y="1400"/>
                </a:lnTo>
                <a:close/>
              </a:path>
              <a:path fill="darkenLess" w="46491" h="21600">
                <a:moveTo>
                  <a:pt x="464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091" y="20200"/>
                </a:lnTo>
                <a:close/>
              </a:path>
              <a:path fill="lighten" w="464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491" h="21600">
                <a:moveTo>
                  <a:pt x="16239" y="3794"/>
                </a:moveTo>
                <a:lnTo>
                  <a:pt x="30252" y="10800"/>
                </a:lnTo>
                <a:lnTo>
                  <a:pt x="16239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0066"/>
                </a:solidFill>
                <a:latin typeface="Comic Sans MS"/>
              </a:rPr>
              <a:t>Table of contents 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609800" y="1447560"/>
            <a:ext cx="37717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his is an example of a table of contents in a book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87" name="Picture 6" descr="Table%20of%20Contents"/>
          <p:cNvPicPr/>
          <p:nvPr/>
        </p:nvPicPr>
        <p:blipFill>
          <a:blip r:embed="rId1"/>
          <a:stretch/>
        </p:blipFill>
        <p:spPr>
          <a:xfrm>
            <a:off x="1162080" y="2209680"/>
            <a:ext cx="2817720" cy="3276720"/>
          </a:xfrm>
          <a:prstGeom prst="rect">
            <a:avLst/>
          </a:prstGeom>
          <a:ln w="0">
            <a:noFill/>
          </a:ln>
        </p:spPr>
      </p:pic>
      <p:sp>
        <p:nvSpPr>
          <p:cNvPr id="288" name="AutoShape 7">
            <a:hlinkClick r:id="" action="ppaction://hlinkshowjump?jump=nextslide"/>
          </p:cNvPr>
          <p:cNvSpPr/>
          <p:nvPr/>
        </p:nvSpPr>
        <p:spPr>
          <a:xfrm>
            <a:off x="3124080" y="5586480"/>
            <a:ext cx="1805040" cy="1271520"/>
          </a:xfrm>
          <a:custGeom>
            <a:avLst/>
            <a:gdLst>
              <a:gd name="textAreaLeft" fmla="*/ 82080 w 1805040"/>
              <a:gd name="textAreaRight" fmla="*/ 1722960 w 1805040"/>
              <a:gd name="textAreaTop" fmla="*/ 82080 h 1271520"/>
              <a:gd name="textAreaBottom" fmla="*/ 1189440 h 1271520"/>
            </a:gdLst>
            <a:ahLst/>
            <a:rect l="textAreaLeft" t="textAreaTop" r="textAreaRight" b="textAreaBottom"/>
            <a:pathLst>
              <a:path w="30661" h="21600">
                <a:moveTo>
                  <a:pt x="0" y="0"/>
                </a:moveTo>
                <a:lnTo>
                  <a:pt x="30661" y="0"/>
                </a:lnTo>
                <a:lnTo>
                  <a:pt x="30661" y="21600"/>
                </a:lnTo>
                <a:lnTo>
                  <a:pt x="0" y="21600"/>
                </a:lnTo>
                <a:close/>
              </a:path>
              <a:path fill="lightenLess" w="30661" h="21600">
                <a:moveTo>
                  <a:pt x="0" y="0"/>
                </a:moveTo>
                <a:lnTo>
                  <a:pt x="30661" y="0"/>
                </a:lnTo>
                <a:lnTo>
                  <a:pt x="29261" y="1400"/>
                </a:lnTo>
                <a:lnTo>
                  <a:pt x="1400" y="1400"/>
                </a:lnTo>
                <a:close/>
              </a:path>
              <a:path fill="darken" w="30661" h="21600">
                <a:moveTo>
                  <a:pt x="30661" y="0"/>
                </a:moveTo>
                <a:lnTo>
                  <a:pt x="30661" y="21600"/>
                </a:lnTo>
                <a:lnTo>
                  <a:pt x="29261" y="20200"/>
                </a:lnTo>
                <a:lnTo>
                  <a:pt x="29261" y="1400"/>
                </a:lnTo>
                <a:close/>
              </a:path>
              <a:path fill="darkenLess" w="30661" h="21600">
                <a:moveTo>
                  <a:pt x="306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261" y="20200"/>
                </a:lnTo>
                <a:close/>
              </a:path>
              <a:path fill="lighten" w="306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661" h="21600">
                <a:moveTo>
                  <a:pt x="8324" y="3794"/>
                </a:moveTo>
                <a:lnTo>
                  <a:pt x="22337" y="10800"/>
                </a:lnTo>
                <a:lnTo>
                  <a:pt x="8324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ther pages you know . . 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69608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Table of Contents is at the beginning of a book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f there is an index, it is at the back of the book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glossary is at the back of the book too, and tells you what words in the book mean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1" name="AutoShape 4">
            <a:hlinkClick r:id="" action="ppaction://hlinkshowjump?jump=nextslide"/>
          </p:cNvPr>
          <p:cNvSpPr/>
          <p:nvPr/>
        </p:nvSpPr>
        <p:spPr>
          <a:xfrm>
            <a:off x="3886200" y="5867280"/>
            <a:ext cx="1652760" cy="990720"/>
          </a:xfrm>
          <a:custGeom>
            <a:avLst/>
            <a:gdLst>
              <a:gd name="textAreaLeft" fmla="*/ 64080 w 1652760"/>
              <a:gd name="textAreaRight" fmla="*/ 1588680 w 165276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6029" h="21600">
                <a:moveTo>
                  <a:pt x="0" y="0"/>
                </a:moveTo>
                <a:lnTo>
                  <a:pt x="36029" y="0"/>
                </a:lnTo>
                <a:lnTo>
                  <a:pt x="36029" y="21600"/>
                </a:lnTo>
                <a:lnTo>
                  <a:pt x="0" y="21600"/>
                </a:lnTo>
                <a:close/>
              </a:path>
              <a:path fill="lightenLess" w="36029" h="21600">
                <a:moveTo>
                  <a:pt x="0" y="0"/>
                </a:moveTo>
                <a:lnTo>
                  <a:pt x="36029" y="0"/>
                </a:lnTo>
                <a:lnTo>
                  <a:pt x="34629" y="1400"/>
                </a:lnTo>
                <a:lnTo>
                  <a:pt x="1400" y="1400"/>
                </a:lnTo>
                <a:close/>
              </a:path>
              <a:path fill="darken" w="36029" h="21600">
                <a:moveTo>
                  <a:pt x="36029" y="0"/>
                </a:moveTo>
                <a:lnTo>
                  <a:pt x="36029" y="21600"/>
                </a:lnTo>
                <a:lnTo>
                  <a:pt x="34629" y="20200"/>
                </a:lnTo>
                <a:lnTo>
                  <a:pt x="34629" y="1400"/>
                </a:lnTo>
                <a:close/>
              </a:path>
              <a:path fill="darkenLess" w="36029" h="21600">
                <a:moveTo>
                  <a:pt x="3602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629" y="20200"/>
                </a:lnTo>
                <a:close/>
              </a:path>
              <a:path fill="lighten" w="3602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029" h="21600">
                <a:moveTo>
                  <a:pt x="11008" y="3794"/>
                </a:moveTo>
                <a:lnTo>
                  <a:pt x="25021" y="10800"/>
                </a:lnTo>
                <a:lnTo>
                  <a:pt x="11008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6870600" cy="15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his is an index from a book.  It is a lot like a table of content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609800" y="1371600"/>
            <a:ext cx="3771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index tells you what pages you find each topic or subject 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" name="AutoShape 10">
            <a:hlinkClick r:id="" action="ppaction://hlinkshowjump?jump=nextslide"/>
          </p:cNvPr>
          <p:cNvSpPr/>
          <p:nvPr/>
        </p:nvSpPr>
        <p:spPr>
          <a:xfrm>
            <a:off x="3276720" y="5943600"/>
            <a:ext cx="2109600" cy="1271520"/>
          </a:xfrm>
          <a:custGeom>
            <a:avLst/>
            <a:gdLst>
              <a:gd name="textAreaLeft" fmla="*/ 82080 w 2109600"/>
              <a:gd name="textAreaRight" fmla="*/ 2027520 w 2109600"/>
              <a:gd name="textAreaTop" fmla="*/ 82080 h 1271520"/>
              <a:gd name="textAreaBottom" fmla="*/ 1189440 h 1271520"/>
            </a:gdLst>
            <a:ahLst/>
            <a:rect l="textAreaLeft" t="textAreaTop" r="textAreaRight" b="textAreaBottom"/>
            <a:pathLst>
              <a:path w="35833" h="21600">
                <a:moveTo>
                  <a:pt x="0" y="0"/>
                </a:moveTo>
                <a:lnTo>
                  <a:pt x="35833" y="0"/>
                </a:lnTo>
                <a:lnTo>
                  <a:pt x="35833" y="21600"/>
                </a:lnTo>
                <a:lnTo>
                  <a:pt x="0" y="21600"/>
                </a:lnTo>
                <a:close/>
              </a:path>
              <a:path fill="lightenLess" w="35833" h="21600">
                <a:moveTo>
                  <a:pt x="0" y="0"/>
                </a:moveTo>
                <a:lnTo>
                  <a:pt x="35833" y="0"/>
                </a:lnTo>
                <a:lnTo>
                  <a:pt x="34433" y="1400"/>
                </a:lnTo>
                <a:lnTo>
                  <a:pt x="1400" y="1400"/>
                </a:lnTo>
                <a:close/>
              </a:path>
              <a:path fill="darken" w="35833" h="21600">
                <a:moveTo>
                  <a:pt x="35833" y="0"/>
                </a:moveTo>
                <a:lnTo>
                  <a:pt x="35833" y="21600"/>
                </a:lnTo>
                <a:lnTo>
                  <a:pt x="34433" y="20200"/>
                </a:lnTo>
                <a:lnTo>
                  <a:pt x="34433" y="1400"/>
                </a:lnTo>
                <a:close/>
              </a:path>
              <a:path fill="darkenLess" w="35833" h="21600">
                <a:moveTo>
                  <a:pt x="358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433" y="20200"/>
                </a:lnTo>
                <a:close/>
              </a:path>
              <a:path fill="lighten" w="358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833" h="21600">
                <a:moveTo>
                  <a:pt x="10910" y="3794"/>
                </a:moveTo>
                <a:lnTo>
                  <a:pt x="24923" y="10800"/>
                </a:lnTo>
                <a:lnTo>
                  <a:pt x="10910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95" name="Picture 16" descr="IA_index"/>
          <p:cNvPicPr/>
          <p:nvPr/>
        </p:nvPicPr>
        <p:blipFill>
          <a:blip r:embed="rId1"/>
          <a:stretch/>
        </p:blipFill>
        <p:spPr>
          <a:xfrm>
            <a:off x="1600200" y="2514600"/>
            <a:ext cx="23320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200"/>
                </a:solidFill>
                <a:latin typeface="Comic Sans MS"/>
              </a:rPr>
              <a:t>Glossar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377208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0" lang="en-US" sz="2800" spc="-1" strike="noStrike">
                <a:solidFill>
                  <a:srgbClr val="00b200"/>
                </a:solidFill>
                <a:latin typeface="Comic Sans MS"/>
              </a:rPr>
              <a:t>glossary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giv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finitions of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words used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 the book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98" name="Picture 7" descr="glossary"/>
          <p:cNvPicPr/>
          <p:nvPr/>
        </p:nvPicPr>
        <p:blipFill>
          <a:blip r:embed="rId1"/>
          <a:stretch/>
        </p:blipFill>
        <p:spPr>
          <a:xfrm>
            <a:off x="4419720" y="2362320"/>
            <a:ext cx="4038480" cy="2863800"/>
          </a:xfrm>
          <a:prstGeom prst="rect">
            <a:avLst/>
          </a:prstGeom>
          <a:ln w="0">
            <a:noFill/>
          </a:ln>
        </p:spPr>
      </p:pic>
      <p:sp>
        <p:nvSpPr>
          <p:cNvPr id="299" name="AutoShape 8">
            <a:hlinkClick r:id="" action="ppaction://hlinkshowjump?jump=nextslide"/>
          </p:cNvPr>
          <p:cNvSpPr/>
          <p:nvPr/>
        </p:nvSpPr>
        <p:spPr>
          <a:xfrm>
            <a:off x="3809880" y="5715000"/>
            <a:ext cx="1729080" cy="1143000"/>
          </a:xfrm>
          <a:custGeom>
            <a:avLst/>
            <a:gdLst>
              <a:gd name="textAreaLeft" fmla="*/ 73800 w 1729080"/>
              <a:gd name="textAreaRight" fmla="*/ 1655280 w 17290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2672" h="21600">
                <a:moveTo>
                  <a:pt x="0" y="0"/>
                </a:moveTo>
                <a:lnTo>
                  <a:pt x="32672" y="0"/>
                </a:lnTo>
                <a:lnTo>
                  <a:pt x="32672" y="21600"/>
                </a:lnTo>
                <a:lnTo>
                  <a:pt x="0" y="21600"/>
                </a:lnTo>
                <a:close/>
              </a:path>
              <a:path fill="lightenLess" w="32672" h="21600">
                <a:moveTo>
                  <a:pt x="0" y="0"/>
                </a:moveTo>
                <a:lnTo>
                  <a:pt x="32672" y="0"/>
                </a:lnTo>
                <a:lnTo>
                  <a:pt x="31272" y="1400"/>
                </a:lnTo>
                <a:lnTo>
                  <a:pt x="1400" y="1400"/>
                </a:lnTo>
                <a:close/>
              </a:path>
              <a:path fill="darken" w="32672" h="21600">
                <a:moveTo>
                  <a:pt x="32672" y="0"/>
                </a:moveTo>
                <a:lnTo>
                  <a:pt x="32672" y="21600"/>
                </a:lnTo>
                <a:lnTo>
                  <a:pt x="31272" y="20200"/>
                </a:lnTo>
                <a:lnTo>
                  <a:pt x="31272" y="1400"/>
                </a:lnTo>
                <a:close/>
              </a:path>
              <a:path fill="darkenLess" w="32672" h="21600">
                <a:moveTo>
                  <a:pt x="326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272" y="20200"/>
                </a:lnTo>
                <a:close/>
              </a:path>
              <a:path fill="lighten" w="326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672" h="21600">
                <a:moveTo>
                  <a:pt x="9330" y="3794"/>
                </a:moveTo>
                <a:lnTo>
                  <a:pt x="23343" y="10800"/>
                </a:lnTo>
                <a:lnTo>
                  <a:pt x="9330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o is the </a:t>
            </a: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author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?  The author is the person who writes the story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762120" y="2286000"/>
            <a:ext cx="761976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author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writes the words of a story.  Sometimes the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author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draws the pictures too – then you say the person is the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author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and illustrator.  The author always writes the words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2" name="AutoShape 4">
            <a:hlinkClick r:id="" action="ppaction://hlinkshowjump?jump=nextslide"/>
          </p:cNvPr>
          <p:cNvSpPr/>
          <p:nvPr/>
        </p:nvSpPr>
        <p:spPr>
          <a:xfrm>
            <a:off x="3733920" y="5943600"/>
            <a:ext cx="1600200" cy="914400"/>
          </a:xfrm>
          <a:custGeom>
            <a:avLst/>
            <a:gdLst>
              <a:gd name="textAreaLeft" fmla="*/ 59040 w 1600200"/>
              <a:gd name="textAreaRight" fmla="*/ 1541160 w 16002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7794" h="21600">
                <a:moveTo>
                  <a:pt x="0" y="0"/>
                </a:moveTo>
                <a:lnTo>
                  <a:pt x="37794" y="0"/>
                </a:lnTo>
                <a:lnTo>
                  <a:pt x="37794" y="21600"/>
                </a:lnTo>
                <a:lnTo>
                  <a:pt x="0" y="21600"/>
                </a:lnTo>
                <a:close/>
              </a:path>
              <a:path fill="lightenLess" w="37794" h="21600">
                <a:moveTo>
                  <a:pt x="0" y="0"/>
                </a:moveTo>
                <a:lnTo>
                  <a:pt x="37794" y="0"/>
                </a:lnTo>
                <a:lnTo>
                  <a:pt x="36394" y="1400"/>
                </a:lnTo>
                <a:lnTo>
                  <a:pt x="1400" y="1400"/>
                </a:lnTo>
                <a:close/>
              </a:path>
              <a:path fill="darken" w="37794" h="21600">
                <a:moveTo>
                  <a:pt x="37794" y="0"/>
                </a:moveTo>
                <a:lnTo>
                  <a:pt x="37794" y="21600"/>
                </a:lnTo>
                <a:lnTo>
                  <a:pt x="36394" y="20200"/>
                </a:lnTo>
                <a:lnTo>
                  <a:pt x="36394" y="1400"/>
                </a:lnTo>
                <a:close/>
              </a:path>
              <a:path fill="darkenLess" w="37794" h="21600">
                <a:moveTo>
                  <a:pt x="377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94" y="20200"/>
                </a:lnTo>
                <a:close/>
              </a:path>
              <a:path fill="lighten" w="377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94" h="21600">
                <a:moveTo>
                  <a:pt x="11890" y="3794"/>
                </a:moveTo>
                <a:lnTo>
                  <a:pt x="25903" y="10800"/>
                </a:lnTo>
                <a:lnTo>
                  <a:pt x="11890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" name="AutoShape 5">
            <a:hlinkClick r:id="rId1" action="ppaction://hlinksldjump"/>
          </p:cNvPr>
          <p:cNvSpPr/>
          <p:nvPr/>
        </p:nvSpPr>
        <p:spPr>
          <a:xfrm>
            <a:off x="5943600" y="4495680"/>
            <a:ext cx="1752480" cy="304920"/>
          </a:xfrm>
          <a:custGeom>
            <a:avLst/>
            <a:gdLst>
              <a:gd name="textAreaLeft" fmla="*/ 19440 w 1752480"/>
              <a:gd name="textAreaRight" fmla="*/ 1733040 w 17524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124022" h="21600">
                <a:moveTo>
                  <a:pt x="0" y="0"/>
                </a:moveTo>
                <a:lnTo>
                  <a:pt x="124022" y="0"/>
                </a:lnTo>
                <a:lnTo>
                  <a:pt x="124022" y="21600"/>
                </a:lnTo>
                <a:lnTo>
                  <a:pt x="0" y="21600"/>
                </a:lnTo>
                <a:close/>
              </a:path>
              <a:path fill="lightenLess" w="124022" h="21600">
                <a:moveTo>
                  <a:pt x="0" y="0"/>
                </a:moveTo>
                <a:lnTo>
                  <a:pt x="124022" y="0"/>
                </a:lnTo>
                <a:lnTo>
                  <a:pt x="122622" y="1400"/>
                </a:lnTo>
                <a:lnTo>
                  <a:pt x="1400" y="1400"/>
                </a:lnTo>
                <a:close/>
              </a:path>
              <a:path fill="darken" w="124022" h="21600">
                <a:moveTo>
                  <a:pt x="124022" y="0"/>
                </a:moveTo>
                <a:lnTo>
                  <a:pt x="124022" y="21600"/>
                </a:lnTo>
                <a:lnTo>
                  <a:pt x="122622" y="20200"/>
                </a:lnTo>
                <a:lnTo>
                  <a:pt x="122622" y="1400"/>
                </a:lnTo>
                <a:close/>
              </a:path>
              <a:path fill="darkenLess" w="124022" h="21600">
                <a:moveTo>
                  <a:pt x="1240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2622" y="20200"/>
                </a:lnTo>
                <a:close/>
              </a:path>
              <a:path fill="lighten" w="1240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761760" y="-686160"/>
            <a:ext cx="6794280" cy="1981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uhler Grade Library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769644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Library at Buhler Grade Elementary School is arranged in four sections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asy (Picture Books) Fictio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ction (Chapter Books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on-fiction (Information Books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iography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AutoShape 4">
            <a:hlinkClick r:id="" action="ppaction://hlinkshowjump?jump=nextslide"/>
          </p:cNvPr>
          <p:cNvSpPr/>
          <p:nvPr/>
        </p:nvSpPr>
        <p:spPr>
          <a:xfrm>
            <a:off x="4038480" y="5562720"/>
            <a:ext cx="1143000" cy="761760"/>
          </a:xfrm>
          <a:custGeom>
            <a:avLst/>
            <a:gdLst>
              <a:gd name="textAreaLeft" fmla="*/ 49320 w 1143000"/>
              <a:gd name="textAreaRight" fmla="*/ 1093680 w 114300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32405" h="21600">
                <a:moveTo>
                  <a:pt x="0" y="0"/>
                </a:moveTo>
                <a:lnTo>
                  <a:pt x="32405" y="0"/>
                </a:lnTo>
                <a:lnTo>
                  <a:pt x="32405" y="21600"/>
                </a:lnTo>
                <a:lnTo>
                  <a:pt x="0" y="21600"/>
                </a:lnTo>
                <a:close/>
              </a:path>
              <a:path fill="lightenLess" w="32405" h="21600">
                <a:moveTo>
                  <a:pt x="0" y="0"/>
                </a:moveTo>
                <a:lnTo>
                  <a:pt x="32405" y="0"/>
                </a:lnTo>
                <a:lnTo>
                  <a:pt x="31005" y="1400"/>
                </a:lnTo>
                <a:lnTo>
                  <a:pt x="1400" y="1400"/>
                </a:lnTo>
                <a:close/>
              </a:path>
              <a:path fill="darken" w="32405" h="21600">
                <a:moveTo>
                  <a:pt x="32405" y="0"/>
                </a:moveTo>
                <a:lnTo>
                  <a:pt x="32405" y="21600"/>
                </a:lnTo>
                <a:lnTo>
                  <a:pt x="31005" y="20200"/>
                </a:lnTo>
                <a:lnTo>
                  <a:pt x="31005" y="1400"/>
                </a:lnTo>
                <a:close/>
              </a:path>
              <a:path fill="darkenLess" w="32405" h="21600">
                <a:moveTo>
                  <a:pt x="324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5" y="20200"/>
                </a:lnTo>
                <a:close/>
              </a:path>
              <a:path fill="lighten" w="324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5" h="21600">
                <a:moveTo>
                  <a:pt x="9196" y="3794"/>
                </a:moveTo>
                <a:lnTo>
                  <a:pt x="23209" y="10800"/>
                </a:lnTo>
                <a:lnTo>
                  <a:pt x="9196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author writes the words of the stor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720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arc Brown is the author of this Arthur book.  He wrote the words of the stories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06" name="Picture 11" descr="0316115738"/>
          <p:cNvPicPr/>
          <p:nvPr/>
        </p:nvPicPr>
        <p:blipFill>
          <a:blip r:embed="rId1"/>
          <a:stretch/>
        </p:blipFill>
        <p:spPr>
          <a:xfrm>
            <a:off x="5232240" y="1828800"/>
            <a:ext cx="2525760" cy="3657600"/>
          </a:xfrm>
          <a:prstGeom prst="rect">
            <a:avLst/>
          </a:prstGeom>
          <a:ln w="0">
            <a:noFill/>
          </a:ln>
        </p:spPr>
      </p:pic>
      <p:sp>
        <p:nvSpPr>
          <p:cNvPr id="307" name="AutoShape 12">
            <a:hlinkClick r:id="" action="ppaction://hlinkshowjump?jump=nextslide"/>
          </p:cNvPr>
          <p:cNvSpPr/>
          <p:nvPr/>
        </p:nvSpPr>
        <p:spPr>
          <a:xfrm>
            <a:off x="3581280" y="5715000"/>
            <a:ext cx="1729080" cy="1143000"/>
          </a:xfrm>
          <a:custGeom>
            <a:avLst/>
            <a:gdLst>
              <a:gd name="textAreaLeft" fmla="*/ 73800 w 1729080"/>
              <a:gd name="textAreaRight" fmla="*/ 1655280 w 17290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2672" h="21600">
                <a:moveTo>
                  <a:pt x="0" y="0"/>
                </a:moveTo>
                <a:lnTo>
                  <a:pt x="32672" y="0"/>
                </a:lnTo>
                <a:lnTo>
                  <a:pt x="32672" y="21600"/>
                </a:lnTo>
                <a:lnTo>
                  <a:pt x="0" y="21600"/>
                </a:lnTo>
                <a:close/>
              </a:path>
              <a:path fill="lightenLess" w="32672" h="21600">
                <a:moveTo>
                  <a:pt x="0" y="0"/>
                </a:moveTo>
                <a:lnTo>
                  <a:pt x="32672" y="0"/>
                </a:lnTo>
                <a:lnTo>
                  <a:pt x="31272" y="1400"/>
                </a:lnTo>
                <a:lnTo>
                  <a:pt x="1400" y="1400"/>
                </a:lnTo>
                <a:close/>
              </a:path>
              <a:path fill="darken" w="32672" h="21600">
                <a:moveTo>
                  <a:pt x="32672" y="0"/>
                </a:moveTo>
                <a:lnTo>
                  <a:pt x="32672" y="21600"/>
                </a:lnTo>
                <a:lnTo>
                  <a:pt x="31272" y="20200"/>
                </a:lnTo>
                <a:lnTo>
                  <a:pt x="31272" y="1400"/>
                </a:lnTo>
                <a:close/>
              </a:path>
              <a:path fill="darkenLess" w="32672" h="21600">
                <a:moveTo>
                  <a:pt x="326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272" y="20200"/>
                </a:lnTo>
                <a:close/>
              </a:path>
              <a:path fill="lighten" w="326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672" h="21600">
                <a:moveTo>
                  <a:pt x="9330" y="3794"/>
                </a:moveTo>
                <a:lnTo>
                  <a:pt x="23343" y="10800"/>
                </a:lnTo>
                <a:lnTo>
                  <a:pt x="9330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does the author do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Text Box 9"/>
          <p:cNvSpPr/>
          <p:nvPr/>
        </p:nvSpPr>
        <p:spPr>
          <a:xfrm>
            <a:off x="685800" y="1447920"/>
            <a:ext cx="777240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author is the person who reads the story in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the librar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author draws signs on billboards around tow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author writes the words of the stor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author draws the pictures, but doesn</a:t>
            </a:r>
            <a:r>
              <a:rPr b="0" lang="ja-JP" sz="2400" spc="-1" strike="noStrike">
                <a:solidFill>
                  <a:srgbClr val="000000"/>
                </a:solidFill>
                <a:latin typeface="Comic Sans MS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 writ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  any word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0" name="AutoShape 10">
            <a:hlinkClick r:id="rId1" action="ppaction://hlinksldjump"/>
          </p:cNvPr>
          <p:cNvSpPr/>
          <p:nvPr/>
        </p:nvSpPr>
        <p:spPr>
          <a:xfrm>
            <a:off x="838080" y="1447920"/>
            <a:ext cx="6248520" cy="914400"/>
          </a:xfrm>
          <a:custGeom>
            <a:avLst/>
            <a:gdLst>
              <a:gd name="textAreaLeft" fmla="*/ 59040 w 6248520"/>
              <a:gd name="textAreaRight" fmla="*/ 6189480 w 62485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147553" h="21600">
                <a:moveTo>
                  <a:pt x="0" y="0"/>
                </a:moveTo>
                <a:lnTo>
                  <a:pt x="147553" y="0"/>
                </a:lnTo>
                <a:lnTo>
                  <a:pt x="147553" y="21600"/>
                </a:lnTo>
                <a:lnTo>
                  <a:pt x="0" y="21600"/>
                </a:lnTo>
                <a:close/>
              </a:path>
              <a:path fill="lightenLess" w="147553" h="21600">
                <a:moveTo>
                  <a:pt x="0" y="0"/>
                </a:moveTo>
                <a:lnTo>
                  <a:pt x="147553" y="0"/>
                </a:lnTo>
                <a:lnTo>
                  <a:pt x="146153" y="1400"/>
                </a:lnTo>
                <a:lnTo>
                  <a:pt x="1400" y="1400"/>
                </a:lnTo>
                <a:close/>
              </a:path>
              <a:path fill="darken" w="147553" h="21600">
                <a:moveTo>
                  <a:pt x="147553" y="0"/>
                </a:moveTo>
                <a:lnTo>
                  <a:pt x="147553" y="21600"/>
                </a:lnTo>
                <a:lnTo>
                  <a:pt x="146153" y="20200"/>
                </a:lnTo>
                <a:lnTo>
                  <a:pt x="146153" y="1400"/>
                </a:lnTo>
                <a:close/>
              </a:path>
              <a:path fill="darkenLess" w="147553" h="21600">
                <a:moveTo>
                  <a:pt x="1475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46153" y="20200"/>
                </a:lnTo>
                <a:close/>
              </a:path>
              <a:path fill="lighten" w="1475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AutoShape 11">
            <a:hlinkClick r:id="rId2" action="ppaction://hlinksldjump"/>
          </p:cNvPr>
          <p:cNvSpPr/>
          <p:nvPr/>
        </p:nvSpPr>
        <p:spPr>
          <a:xfrm>
            <a:off x="838080" y="3200400"/>
            <a:ext cx="6324840" cy="457200"/>
          </a:xfrm>
          <a:custGeom>
            <a:avLst/>
            <a:gdLst>
              <a:gd name="textAreaLeft" fmla="*/ 29520 w 6324840"/>
              <a:gd name="textAreaRight" fmla="*/ 6295320 w 63248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98593" h="21600">
                <a:moveTo>
                  <a:pt x="0" y="0"/>
                </a:moveTo>
                <a:lnTo>
                  <a:pt x="298593" y="0"/>
                </a:lnTo>
                <a:lnTo>
                  <a:pt x="298593" y="21600"/>
                </a:lnTo>
                <a:lnTo>
                  <a:pt x="0" y="21600"/>
                </a:lnTo>
                <a:close/>
              </a:path>
              <a:path fill="lightenLess" w="298593" h="21600">
                <a:moveTo>
                  <a:pt x="0" y="0"/>
                </a:moveTo>
                <a:lnTo>
                  <a:pt x="298593" y="0"/>
                </a:lnTo>
                <a:lnTo>
                  <a:pt x="297193" y="1400"/>
                </a:lnTo>
                <a:lnTo>
                  <a:pt x="1400" y="1400"/>
                </a:lnTo>
                <a:close/>
              </a:path>
              <a:path fill="darken" w="298593" h="21600">
                <a:moveTo>
                  <a:pt x="298593" y="0"/>
                </a:moveTo>
                <a:lnTo>
                  <a:pt x="298593" y="21600"/>
                </a:lnTo>
                <a:lnTo>
                  <a:pt x="297193" y="20200"/>
                </a:lnTo>
                <a:lnTo>
                  <a:pt x="297193" y="1400"/>
                </a:lnTo>
                <a:close/>
              </a:path>
              <a:path fill="darkenLess" w="298593" h="21600">
                <a:moveTo>
                  <a:pt x="2985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7193" y="20200"/>
                </a:lnTo>
                <a:close/>
              </a:path>
              <a:path fill="lighten" w="2985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" name="AutoShape 12">
            <a:hlinkClick r:id="rId3" action="ppaction://hlinksldjump"/>
          </p:cNvPr>
          <p:cNvSpPr/>
          <p:nvPr/>
        </p:nvSpPr>
        <p:spPr>
          <a:xfrm>
            <a:off x="838080" y="4267080"/>
            <a:ext cx="6172200" cy="381240"/>
          </a:xfrm>
          <a:custGeom>
            <a:avLst/>
            <a:gdLst>
              <a:gd name="textAreaLeft" fmla="*/ 24480 w 6172200"/>
              <a:gd name="textAreaRight" fmla="*/ 6147720 w 6172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349390" h="21600">
                <a:moveTo>
                  <a:pt x="0" y="0"/>
                </a:moveTo>
                <a:lnTo>
                  <a:pt x="349390" y="0"/>
                </a:lnTo>
                <a:lnTo>
                  <a:pt x="349390" y="21600"/>
                </a:lnTo>
                <a:lnTo>
                  <a:pt x="0" y="21600"/>
                </a:lnTo>
                <a:close/>
              </a:path>
              <a:path fill="lightenLess" w="349390" h="21600">
                <a:moveTo>
                  <a:pt x="0" y="0"/>
                </a:moveTo>
                <a:lnTo>
                  <a:pt x="349390" y="0"/>
                </a:lnTo>
                <a:lnTo>
                  <a:pt x="347990" y="1400"/>
                </a:lnTo>
                <a:lnTo>
                  <a:pt x="1400" y="1400"/>
                </a:lnTo>
                <a:close/>
              </a:path>
              <a:path fill="darken" w="349390" h="21600">
                <a:moveTo>
                  <a:pt x="349390" y="0"/>
                </a:moveTo>
                <a:lnTo>
                  <a:pt x="349390" y="21600"/>
                </a:lnTo>
                <a:lnTo>
                  <a:pt x="347990" y="20200"/>
                </a:lnTo>
                <a:lnTo>
                  <a:pt x="347990" y="1400"/>
                </a:lnTo>
                <a:close/>
              </a:path>
              <a:path fill="darkenLess" w="349390" h="21600">
                <a:moveTo>
                  <a:pt x="3493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7990" y="20200"/>
                </a:lnTo>
                <a:close/>
              </a:path>
              <a:path fill="lighten" w="3493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" name="AutoShape 13">
            <a:hlinkClick r:id="rId4" action="ppaction://hlinksldjump"/>
          </p:cNvPr>
          <p:cNvSpPr/>
          <p:nvPr/>
        </p:nvSpPr>
        <p:spPr>
          <a:xfrm>
            <a:off x="762120" y="4800600"/>
            <a:ext cx="6400800" cy="838080"/>
          </a:xfrm>
          <a:custGeom>
            <a:avLst/>
            <a:gdLst>
              <a:gd name="textAreaLeft" fmla="*/ 54000 w 6400800"/>
              <a:gd name="textAreaRight" fmla="*/ 6346800 w 64008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164908" h="21600">
                <a:moveTo>
                  <a:pt x="0" y="0"/>
                </a:moveTo>
                <a:lnTo>
                  <a:pt x="164908" y="0"/>
                </a:lnTo>
                <a:lnTo>
                  <a:pt x="164908" y="21600"/>
                </a:lnTo>
                <a:lnTo>
                  <a:pt x="0" y="21600"/>
                </a:lnTo>
                <a:close/>
              </a:path>
              <a:path fill="lightenLess" w="164908" h="21600">
                <a:moveTo>
                  <a:pt x="0" y="0"/>
                </a:moveTo>
                <a:lnTo>
                  <a:pt x="164908" y="0"/>
                </a:lnTo>
                <a:lnTo>
                  <a:pt x="163508" y="1400"/>
                </a:lnTo>
                <a:lnTo>
                  <a:pt x="1400" y="1400"/>
                </a:lnTo>
                <a:close/>
              </a:path>
              <a:path fill="darken" w="164908" h="21600">
                <a:moveTo>
                  <a:pt x="164908" y="0"/>
                </a:moveTo>
                <a:lnTo>
                  <a:pt x="164908" y="21600"/>
                </a:lnTo>
                <a:lnTo>
                  <a:pt x="163508" y="20200"/>
                </a:lnTo>
                <a:lnTo>
                  <a:pt x="163508" y="1400"/>
                </a:lnTo>
                <a:close/>
              </a:path>
              <a:path fill="darkenLess" w="164908" h="21600">
                <a:moveTo>
                  <a:pt x="1649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63508" y="20200"/>
                </a:lnTo>
                <a:close/>
              </a:path>
              <a:path fill="lighten" w="1649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4" name="AutoShape 15">
            <a:hlinkClick r:id="rId5" action="ppaction://hlinksldjump"/>
          </p:cNvPr>
          <p:cNvSpPr/>
          <p:nvPr/>
        </p:nvSpPr>
        <p:spPr>
          <a:xfrm>
            <a:off x="990720" y="2590920"/>
            <a:ext cx="7010280" cy="761760"/>
          </a:xfrm>
          <a:custGeom>
            <a:avLst/>
            <a:gdLst>
              <a:gd name="textAreaLeft" fmla="*/ 49320 w 7010280"/>
              <a:gd name="textAreaRight" fmla="*/ 6960960 w 701028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198696" h="21600">
                <a:moveTo>
                  <a:pt x="0" y="0"/>
                </a:moveTo>
                <a:lnTo>
                  <a:pt x="198696" y="0"/>
                </a:lnTo>
                <a:lnTo>
                  <a:pt x="198696" y="21600"/>
                </a:lnTo>
                <a:lnTo>
                  <a:pt x="0" y="21600"/>
                </a:lnTo>
                <a:close/>
              </a:path>
              <a:path fill="lightenLess" w="198696" h="21600">
                <a:moveTo>
                  <a:pt x="0" y="0"/>
                </a:moveTo>
                <a:lnTo>
                  <a:pt x="198696" y="0"/>
                </a:lnTo>
                <a:lnTo>
                  <a:pt x="197296" y="1400"/>
                </a:lnTo>
                <a:lnTo>
                  <a:pt x="1400" y="1400"/>
                </a:lnTo>
                <a:close/>
              </a:path>
              <a:path fill="darken" w="198696" h="21600">
                <a:moveTo>
                  <a:pt x="198696" y="0"/>
                </a:moveTo>
                <a:lnTo>
                  <a:pt x="198696" y="21600"/>
                </a:lnTo>
                <a:lnTo>
                  <a:pt x="197296" y="20200"/>
                </a:lnTo>
                <a:lnTo>
                  <a:pt x="197296" y="1400"/>
                </a:lnTo>
                <a:close/>
              </a:path>
              <a:path fill="darkenLess" w="198696" h="21600">
                <a:moveTo>
                  <a:pt x="1986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97296" y="20200"/>
                </a:lnTo>
                <a:close/>
              </a:path>
              <a:path fill="lighten" w="1986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5" name="AutoShape 16">
            <a:hlinkClick r:id="rId6" action="ppaction://hlinksldjump"/>
          </p:cNvPr>
          <p:cNvSpPr/>
          <p:nvPr/>
        </p:nvSpPr>
        <p:spPr>
          <a:xfrm>
            <a:off x="914400" y="3809880"/>
            <a:ext cx="5791320" cy="609840"/>
          </a:xfrm>
          <a:custGeom>
            <a:avLst/>
            <a:gdLst>
              <a:gd name="textAreaLeft" fmla="*/ 39240 w 5791320"/>
              <a:gd name="textAreaRight" fmla="*/ 5752080 w 579132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05015" h="21600">
                <a:moveTo>
                  <a:pt x="0" y="0"/>
                </a:moveTo>
                <a:lnTo>
                  <a:pt x="205015" y="0"/>
                </a:lnTo>
                <a:lnTo>
                  <a:pt x="205015" y="21600"/>
                </a:lnTo>
                <a:lnTo>
                  <a:pt x="0" y="21600"/>
                </a:lnTo>
                <a:close/>
              </a:path>
              <a:path fill="lightenLess" w="205015" h="21600">
                <a:moveTo>
                  <a:pt x="0" y="0"/>
                </a:moveTo>
                <a:lnTo>
                  <a:pt x="205015" y="0"/>
                </a:lnTo>
                <a:lnTo>
                  <a:pt x="203615" y="1400"/>
                </a:lnTo>
                <a:lnTo>
                  <a:pt x="1400" y="1400"/>
                </a:lnTo>
                <a:close/>
              </a:path>
              <a:path fill="darken" w="205015" h="21600">
                <a:moveTo>
                  <a:pt x="205015" y="0"/>
                </a:moveTo>
                <a:lnTo>
                  <a:pt x="205015" y="21600"/>
                </a:lnTo>
                <a:lnTo>
                  <a:pt x="203615" y="20200"/>
                </a:lnTo>
                <a:lnTo>
                  <a:pt x="203615" y="1400"/>
                </a:lnTo>
                <a:close/>
              </a:path>
              <a:path fill="darkenLess" w="205015" h="21600">
                <a:moveTo>
                  <a:pt x="2050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615" y="20200"/>
                </a:lnTo>
                <a:close/>
              </a:path>
              <a:path fill="lighten" w="2050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" name="Text Box 18"/>
          <p:cNvSpPr/>
          <p:nvPr/>
        </p:nvSpPr>
        <p:spPr>
          <a:xfrm>
            <a:off x="2362320" y="6324480"/>
            <a:ext cx="441936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b8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33"/>
                </a:solidFill>
                <a:latin typeface="Comic Sans MS"/>
              </a:rPr>
              <a:t>Click on your choice to answer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58CF1774.WAV" descr=""/>
          <p:cNvPicPr/>
          <p:nvPr/>
        </p:nvPicPr>
        <p:blipFill>
          <a:blip r:embed="rId1"/>
          <a:stretch/>
        </p:blipFill>
        <p:spPr>
          <a:xfrm>
            <a:off x="2514600" y="3124080"/>
            <a:ext cx="228600" cy="228600"/>
          </a:xfrm>
          <a:prstGeom prst="rect">
            <a:avLst/>
          </a:prstGeom>
          <a:ln w="0">
            <a:noFill/>
          </a:ln>
        </p:spPr>
      </p:pic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>
                <a:alpha val="75000"/>
              </a:srgbClr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609800" y="1828800"/>
            <a:ext cx="3771720" cy="36576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>
                <a:alpha val="50000"/>
              </a:srgbClr>
            </a:outerShdw>
          </a:effectLst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cc0066"/>
                </a:solidFill>
                <a:latin typeface="Comic Sans MS"/>
              </a:rPr>
              <a:t>AWESOME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3200" spc="-1" strike="noStrike">
                <a:solidFill>
                  <a:srgbClr val="cc3399"/>
                </a:solidFill>
                <a:latin typeface="Comic Sans MS"/>
              </a:rPr>
              <a:t>You know the author writes the words of the story.  Good job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" name="WordArt 10"/>
          <p:cNvSpPr txBox="1"/>
          <p:nvPr/>
        </p:nvSpPr>
        <p:spPr>
          <a:xfrm>
            <a:off x="1905120" y="838080"/>
            <a:ext cx="41148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 Black"/>
              </a:rPr>
              <a:t>That's it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pic>
        <p:nvPicPr>
          <p:cNvPr id="321" name="Picture 12" descr="j0252143[1]"/>
          <p:cNvPicPr/>
          <p:nvPr/>
        </p:nvPicPr>
        <p:blipFill>
          <a:blip r:embed="rId4"/>
          <a:stretch/>
        </p:blipFill>
        <p:spPr>
          <a:xfrm>
            <a:off x="1954080" y="2133720"/>
            <a:ext cx="1648080" cy="2971800"/>
          </a:xfrm>
          <a:prstGeom prst="rect">
            <a:avLst/>
          </a:prstGeom>
          <a:ln w="0">
            <a:noFill/>
          </a:ln>
        </p:spPr>
      </p:pic>
      <p:sp>
        <p:nvSpPr>
          <p:cNvPr id="322" name="AutoShape 13">
            <a:hlinkClick r:id="rId5" action="ppaction://hlinksldjump"/>
          </p:cNvPr>
          <p:cNvSpPr/>
          <p:nvPr/>
        </p:nvSpPr>
        <p:spPr>
          <a:xfrm flipV="1">
            <a:off x="2819520" y="5638680"/>
            <a:ext cx="1828800" cy="914400"/>
          </a:xfrm>
          <a:custGeom>
            <a:avLst/>
            <a:gdLst>
              <a:gd name="textAreaLeft" fmla="*/ 59040 w 1828800"/>
              <a:gd name="textAreaRight" fmla="*/ 1769760 w 18288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43191" h="21600">
                <a:moveTo>
                  <a:pt x="0" y="0"/>
                </a:moveTo>
                <a:lnTo>
                  <a:pt x="43191" y="0"/>
                </a:lnTo>
                <a:lnTo>
                  <a:pt x="43191" y="21600"/>
                </a:lnTo>
                <a:lnTo>
                  <a:pt x="0" y="21600"/>
                </a:lnTo>
                <a:close/>
              </a:path>
              <a:path fill="lightenLess" w="43191" h="21600">
                <a:moveTo>
                  <a:pt x="0" y="0"/>
                </a:moveTo>
                <a:lnTo>
                  <a:pt x="43191" y="0"/>
                </a:lnTo>
                <a:lnTo>
                  <a:pt x="41791" y="1400"/>
                </a:lnTo>
                <a:lnTo>
                  <a:pt x="1400" y="1400"/>
                </a:lnTo>
                <a:close/>
              </a:path>
              <a:path fill="darken" w="43191" h="21600">
                <a:moveTo>
                  <a:pt x="43191" y="0"/>
                </a:moveTo>
                <a:lnTo>
                  <a:pt x="43191" y="21600"/>
                </a:lnTo>
                <a:lnTo>
                  <a:pt x="41791" y="20200"/>
                </a:lnTo>
                <a:lnTo>
                  <a:pt x="41791" y="1400"/>
                </a:lnTo>
                <a:close/>
              </a:path>
              <a:path fill="darkenLess" w="43191" h="21600">
                <a:moveTo>
                  <a:pt x="431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91" y="20200"/>
                </a:lnTo>
                <a:close/>
              </a:path>
              <a:path fill="lighten" w="431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91" h="21600">
                <a:moveTo>
                  <a:pt x="14589" y="3794"/>
                </a:moveTo>
                <a:lnTo>
                  <a:pt x="28602" y="10800"/>
                </a:lnTo>
                <a:lnTo>
                  <a:pt x="14589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98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Good try . . . read this . . .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author is the person that writes the story.  (The person that draws the pictures is called the Illustrator.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person that writes the words of the story is the author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5" name="AutoShape 6">
            <a:hlinkClick r:id="" action="ppaction://hlinkshowjump?jump=previousslide"/>
          </p:cNvPr>
          <p:cNvSpPr/>
          <p:nvPr/>
        </p:nvSpPr>
        <p:spPr>
          <a:xfrm>
            <a:off x="3276720" y="5486400"/>
            <a:ext cx="2209680" cy="990720"/>
          </a:xfrm>
          <a:custGeom>
            <a:avLst/>
            <a:gdLst>
              <a:gd name="textAreaLeft" fmla="*/ 64080 w 2209680"/>
              <a:gd name="textAreaRight" fmla="*/ 2145600 w 22096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48167" h="21600">
                <a:moveTo>
                  <a:pt x="0" y="0"/>
                </a:moveTo>
                <a:lnTo>
                  <a:pt x="48167" y="0"/>
                </a:lnTo>
                <a:lnTo>
                  <a:pt x="48167" y="21600"/>
                </a:lnTo>
                <a:lnTo>
                  <a:pt x="0" y="21600"/>
                </a:lnTo>
                <a:close/>
              </a:path>
              <a:path fill="lightenLess" w="48167" h="21600">
                <a:moveTo>
                  <a:pt x="0" y="0"/>
                </a:moveTo>
                <a:lnTo>
                  <a:pt x="48167" y="0"/>
                </a:lnTo>
                <a:lnTo>
                  <a:pt x="46767" y="1400"/>
                </a:lnTo>
                <a:lnTo>
                  <a:pt x="1400" y="1400"/>
                </a:lnTo>
                <a:close/>
              </a:path>
              <a:path fill="darken" w="48167" h="21600">
                <a:moveTo>
                  <a:pt x="48167" y="0"/>
                </a:moveTo>
                <a:lnTo>
                  <a:pt x="48167" y="21600"/>
                </a:lnTo>
                <a:lnTo>
                  <a:pt x="46767" y="20200"/>
                </a:lnTo>
                <a:lnTo>
                  <a:pt x="46767" y="1400"/>
                </a:lnTo>
                <a:close/>
              </a:path>
              <a:path fill="darkenLess" w="48167" h="21600">
                <a:moveTo>
                  <a:pt x="4816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767" y="20200"/>
                </a:lnTo>
                <a:close/>
              </a:path>
              <a:path fill="lighten" w="4816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6" name="AutoShape 7">
            <a:hlinkClick r:id="" action="ppaction://hlinkshowjump?jump=previousslide"/>
          </p:cNvPr>
          <p:cNvSpPr/>
          <p:nvPr/>
        </p:nvSpPr>
        <p:spPr>
          <a:xfrm>
            <a:off x="3276720" y="5486400"/>
            <a:ext cx="2209680" cy="990720"/>
          </a:xfrm>
          <a:custGeom>
            <a:avLst/>
            <a:gdLst>
              <a:gd name="textAreaLeft" fmla="*/ 64080 w 2209680"/>
              <a:gd name="textAreaRight" fmla="*/ 2145600 w 22096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48167" h="21600">
                <a:moveTo>
                  <a:pt x="0" y="0"/>
                </a:moveTo>
                <a:lnTo>
                  <a:pt x="48167" y="0"/>
                </a:lnTo>
                <a:lnTo>
                  <a:pt x="48167" y="21600"/>
                </a:lnTo>
                <a:lnTo>
                  <a:pt x="0" y="21600"/>
                </a:lnTo>
                <a:close/>
              </a:path>
              <a:path fill="lightenLess" w="48167" h="21600">
                <a:moveTo>
                  <a:pt x="0" y="0"/>
                </a:moveTo>
                <a:lnTo>
                  <a:pt x="48167" y="0"/>
                </a:lnTo>
                <a:lnTo>
                  <a:pt x="46767" y="1400"/>
                </a:lnTo>
                <a:lnTo>
                  <a:pt x="1400" y="1400"/>
                </a:lnTo>
                <a:close/>
              </a:path>
              <a:path fill="darken" w="48167" h="21600">
                <a:moveTo>
                  <a:pt x="48167" y="0"/>
                </a:moveTo>
                <a:lnTo>
                  <a:pt x="48167" y="21600"/>
                </a:lnTo>
                <a:lnTo>
                  <a:pt x="46767" y="20200"/>
                </a:lnTo>
                <a:lnTo>
                  <a:pt x="46767" y="1400"/>
                </a:lnTo>
                <a:close/>
              </a:path>
              <a:path fill="darkenLess" w="48167" h="21600">
                <a:moveTo>
                  <a:pt x="4816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767" y="20200"/>
                </a:lnTo>
                <a:close/>
              </a:path>
              <a:path fill="lighten" w="4816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7" name="AutoShape 8">
            <a:hlinkClick r:id="rId1" action="ppaction://hlinksldjump"/>
          </p:cNvPr>
          <p:cNvSpPr/>
          <p:nvPr/>
        </p:nvSpPr>
        <p:spPr>
          <a:xfrm>
            <a:off x="3276720" y="5486400"/>
            <a:ext cx="2209680" cy="990720"/>
          </a:xfrm>
          <a:custGeom>
            <a:avLst/>
            <a:gdLst>
              <a:gd name="textAreaLeft" fmla="*/ 64080 w 2209680"/>
              <a:gd name="textAreaRight" fmla="*/ 2145600 w 22096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48167" h="21600">
                <a:moveTo>
                  <a:pt x="0" y="0"/>
                </a:moveTo>
                <a:lnTo>
                  <a:pt x="48167" y="0"/>
                </a:lnTo>
                <a:lnTo>
                  <a:pt x="48167" y="21600"/>
                </a:lnTo>
                <a:lnTo>
                  <a:pt x="0" y="21600"/>
                </a:lnTo>
                <a:close/>
              </a:path>
              <a:path fill="lightenLess" w="48167" h="21600">
                <a:moveTo>
                  <a:pt x="0" y="0"/>
                </a:moveTo>
                <a:lnTo>
                  <a:pt x="48167" y="0"/>
                </a:lnTo>
                <a:lnTo>
                  <a:pt x="46767" y="1400"/>
                </a:lnTo>
                <a:lnTo>
                  <a:pt x="1400" y="1400"/>
                </a:lnTo>
                <a:close/>
              </a:path>
              <a:path fill="darken" w="48167" h="21600">
                <a:moveTo>
                  <a:pt x="48167" y="0"/>
                </a:moveTo>
                <a:lnTo>
                  <a:pt x="48167" y="21600"/>
                </a:lnTo>
                <a:lnTo>
                  <a:pt x="46767" y="20200"/>
                </a:lnTo>
                <a:lnTo>
                  <a:pt x="46767" y="1400"/>
                </a:lnTo>
                <a:close/>
              </a:path>
              <a:path fill="darkenLess" w="48167" h="21600">
                <a:moveTo>
                  <a:pt x="4816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767" y="20200"/>
                </a:lnTo>
                <a:close/>
              </a:path>
              <a:path fill="lighten" w="4816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lick here to try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nswering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Illustrator draws the pictures in a book.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533160" y="1905120"/>
            <a:ext cx="792468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illustrator is the person that draws the pictures in a story book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ometimes there are pictures on every page, and they tell a big part of the story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person that draws them is the illustrator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0" name="AutoShape 4">
            <a:hlinkClick r:id="" action="ppaction://hlinkshowjump?jump=nextslide"/>
          </p:cNvPr>
          <p:cNvSpPr/>
          <p:nvPr/>
        </p:nvSpPr>
        <p:spPr>
          <a:xfrm>
            <a:off x="3886200" y="5638680"/>
            <a:ext cx="1447920" cy="838440"/>
          </a:xfrm>
          <a:custGeom>
            <a:avLst/>
            <a:gdLst>
              <a:gd name="textAreaLeft" fmla="*/ 54360 w 1447920"/>
              <a:gd name="textAreaRight" fmla="*/ 1393560 w 14479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7295" h="21600">
                <a:moveTo>
                  <a:pt x="0" y="0"/>
                </a:moveTo>
                <a:lnTo>
                  <a:pt x="37295" y="0"/>
                </a:lnTo>
                <a:lnTo>
                  <a:pt x="37295" y="21600"/>
                </a:lnTo>
                <a:lnTo>
                  <a:pt x="0" y="21600"/>
                </a:lnTo>
                <a:close/>
              </a:path>
              <a:path fill="lightenLess" w="37295" h="21600">
                <a:moveTo>
                  <a:pt x="0" y="0"/>
                </a:moveTo>
                <a:lnTo>
                  <a:pt x="37295" y="0"/>
                </a:lnTo>
                <a:lnTo>
                  <a:pt x="35895" y="1400"/>
                </a:lnTo>
                <a:lnTo>
                  <a:pt x="1400" y="1400"/>
                </a:lnTo>
                <a:close/>
              </a:path>
              <a:path fill="darken" w="37295" h="21600">
                <a:moveTo>
                  <a:pt x="37295" y="0"/>
                </a:moveTo>
                <a:lnTo>
                  <a:pt x="37295" y="21600"/>
                </a:lnTo>
                <a:lnTo>
                  <a:pt x="35895" y="20200"/>
                </a:lnTo>
                <a:lnTo>
                  <a:pt x="35895" y="1400"/>
                </a:lnTo>
                <a:close/>
              </a:path>
              <a:path fill="darkenLess" w="37295" h="21600">
                <a:moveTo>
                  <a:pt x="372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895" y="20200"/>
                </a:lnTo>
                <a:close/>
              </a:path>
              <a:path fill="lighten" w="372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295" h="21600">
                <a:moveTo>
                  <a:pt x="11641" y="3794"/>
                </a:moveTo>
                <a:lnTo>
                  <a:pt x="25654" y="10800"/>
                </a:lnTo>
                <a:lnTo>
                  <a:pt x="11641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Illustrator draws the pictur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609800" y="2362320"/>
            <a:ext cx="377172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s book is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llustrated by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ony DiTerlizzi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(He won an award for the drawings!)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3" name="AutoShape 8">
            <a:hlinkClick r:id="" action="ppaction://hlinkshowjump?jump=nextslide"/>
          </p:cNvPr>
          <p:cNvSpPr/>
          <p:nvPr/>
        </p:nvSpPr>
        <p:spPr>
          <a:xfrm>
            <a:off x="3886200" y="5715000"/>
            <a:ext cx="1805040" cy="1195560"/>
          </a:xfrm>
          <a:custGeom>
            <a:avLst/>
            <a:gdLst>
              <a:gd name="textAreaLeft" fmla="*/ 77400 w 1805040"/>
              <a:gd name="textAreaRight" fmla="*/ 1727640 w 1805040"/>
              <a:gd name="textAreaTop" fmla="*/ 77400 h 1195560"/>
              <a:gd name="textAreaBottom" fmla="*/ 1118160 h 1195560"/>
            </a:gdLst>
            <a:ahLst/>
            <a:rect l="textAreaLeft" t="textAreaTop" r="textAreaRight" b="textAreaBottom"/>
            <a:pathLst>
              <a:path w="32608" h="21600">
                <a:moveTo>
                  <a:pt x="0" y="0"/>
                </a:moveTo>
                <a:lnTo>
                  <a:pt x="32608" y="0"/>
                </a:lnTo>
                <a:lnTo>
                  <a:pt x="32608" y="21600"/>
                </a:lnTo>
                <a:lnTo>
                  <a:pt x="0" y="21600"/>
                </a:lnTo>
                <a:close/>
              </a:path>
              <a:path fill="lightenLess" w="32608" h="21600">
                <a:moveTo>
                  <a:pt x="0" y="0"/>
                </a:moveTo>
                <a:lnTo>
                  <a:pt x="32608" y="0"/>
                </a:lnTo>
                <a:lnTo>
                  <a:pt x="31208" y="1400"/>
                </a:lnTo>
                <a:lnTo>
                  <a:pt x="1400" y="1400"/>
                </a:lnTo>
                <a:close/>
              </a:path>
              <a:path fill="darken" w="32608" h="21600">
                <a:moveTo>
                  <a:pt x="32608" y="0"/>
                </a:moveTo>
                <a:lnTo>
                  <a:pt x="32608" y="21600"/>
                </a:lnTo>
                <a:lnTo>
                  <a:pt x="31208" y="20200"/>
                </a:lnTo>
                <a:lnTo>
                  <a:pt x="31208" y="1400"/>
                </a:lnTo>
                <a:close/>
              </a:path>
              <a:path fill="darkenLess" w="32608" h="21600">
                <a:moveTo>
                  <a:pt x="326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208" y="20200"/>
                </a:lnTo>
                <a:close/>
              </a:path>
              <a:path fill="lighten" w="326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608" h="21600">
                <a:moveTo>
                  <a:pt x="9298" y="3794"/>
                </a:moveTo>
                <a:lnTo>
                  <a:pt x="23311" y="10800"/>
                </a:lnTo>
                <a:lnTo>
                  <a:pt x="9298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34" name="Picture 10" descr="0689852894"/>
          <p:cNvPicPr/>
          <p:nvPr/>
        </p:nvPicPr>
        <p:blipFill>
          <a:blip r:embed="rId1"/>
          <a:stretch/>
        </p:blipFill>
        <p:spPr>
          <a:xfrm>
            <a:off x="685800" y="1938240"/>
            <a:ext cx="3772080" cy="34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does the Illustrator do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illustrator is the person that buys the boo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illustrator mails the book to people who order it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illustrator writes the story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illustrator draws the pictures in the story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7" name="AutoShape 9">
            <a:hlinkClick r:id="rId1" action="ppaction://hlinksldjump"/>
          </p:cNvPr>
          <p:cNvSpPr/>
          <p:nvPr/>
        </p:nvSpPr>
        <p:spPr>
          <a:xfrm>
            <a:off x="1066680" y="1981080"/>
            <a:ext cx="5257800" cy="762120"/>
          </a:xfrm>
          <a:custGeom>
            <a:avLst/>
            <a:gdLst>
              <a:gd name="textAreaLeft" fmla="*/ 49320 w 5257800"/>
              <a:gd name="textAreaRight" fmla="*/ 5208480 w 52578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148956" h="21600">
                <a:moveTo>
                  <a:pt x="0" y="0"/>
                </a:moveTo>
                <a:lnTo>
                  <a:pt x="148956" y="0"/>
                </a:lnTo>
                <a:lnTo>
                  <a:pt x="148956" y="21600"/>
                </a:lnTo>
                <a:lnTo>
                  <a:pt x="0" y="21600"/>
                </a:lnTo>
                <a:close/>
              </a:path>
              <a:path fill="lightenLess" w="148956" h="21600">
                <a:moveTo>
                  <a:pt x="0" y="0"/>
                </a:moveTo>
                <a:lnTo>
                  <a:pt x="148956" y="0"/>
                </a:lnTo>
                <a:lnTo>
                  <a:pt x="147556" y="1400"/>
                </a:lnTo>
                <a:lnTo>
                  <a:pt x="1400" y="1400"/>
                </a:lnTo>
                <a:close/>
              </a:path>
              <a:path fill="darken" w="148956" h="21600">
                <a:moveTo>
                  <a:pt x="148956" y="0"/>
                </a:moveTo>
                <a:lnTo>
                  <a:pt x="148956" y="21600"/>
                </a:lnTo>
                <a:lnTo>
                  <a:pt x="147556" y="20200"/>
                </a:lnTo>
                <a:lnTo>
                  <a:pt x="147556" y="1400"/>
                </a:lnTo>
                <a:close/>
              </a:path>
              <a:path fill="darkenLess" w="148956" h="21600">
                <a:moveTo>
                  <a:pt x="1489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47556" y="20200"/>
                </a:lnTo>
                <a:close/>
              </a:path>
              <a:path fill="lighten" w="1489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8" name="AutoShape 10">
            <a:hlinkClick r:id="rId2" action="ppaction://hlinksldjump"/>
          </p:cNvPr>
          <p:cNvSpPr/>
          <p:nvPr/>
        </p:nvSpPr>
        <p:spPr>
          <a:xfrm>
            <a:off x="1219320" y="3200400"/>
            <a:ext cx="5029200" cy="685800"/>
          </a:xfrm>
          <a:custGeom>
            <a:avLst/>
            <a:gdLst>
              <a:gd name="textAreaLeft" fmla="*/ 44280 w 5029200"/>
              <a:gd name="textAreaRight" fmla="*/ 4984920 w 50292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158328" h="21600">
                <a:moveTo>
                  <a:pt x="0" y="0"/>
                </a:moveTo>
                <a:lnTo>
                  <a:pt x="158328" y="0"/>
                </a:lnTo>
                <a:lnTo>
                  <a:pt x="158328" y="21600"/>
                </a:lnTo>
                <a:lnTo>
                  <a:pt x="0" y="21600"/>
                </a:lnTo>
                <a:close/>
              </a:path>
              <a:path fill="lightenLess" w="158328" h="21600">
                <a:moveTo>
                  <a:pt x="0" y="0"/>
                </a:moveTo>
                <a:lnTo>
                  <a:pt x="158328" y="0"/>
                </a:lnTo>
                <a:lnTo>
                  <a:pt x="156928" y="1400"/>
                </a:lnTo>
                <a:lnTo>
                  <a:pt x="1400" y="1400"/>
                </a:lnTo>
                <a:close/>
              </a:path>
              <a:path fill="darken" w="158328" h="21600">
                <a:moveTo>
                  <a:pt x="158328" y="0"/>
                </a:moveTo>
                <a:lnTo>
                  <a:pt x="158328" y="21600"/>
                </a:lnTo>
                <a:lnTo>
                  <a:pt x="156928" y="20200"/>
                </a:lnTo>
                <a:lnTo>
                  <a:pt x="156928" y="1400"/>
                </a:lnTo>
                <a:close/>
              </a:path>
              <a:path fill="darkenLess" w="158328" h="21600">
                <a:moveTo>
                  <a:pt x="1583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56928" y="20200"/>
                </a:lnTo>
                <a:close/>
              </a:path>
              <a:path fill="lighten" w="1583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9" name="AutoShape 11">
            <a:hlinkClick r:id="rId3" action="ppaction://hlinksldjump"/>
          </p:cNvPr>
          <p:cNvSpPr/>
          <p:nvPr/>
        </p:nvSpPr>
        <p:spPr>
          <a:xfrm>
            <a:off x="1143000" y="4038480"/>
            <a:ext cx="5181480" cy="457200"/>
          </a:xfrm>
          <a:custGeom>
            <a:avLst/>
            <a:gdLst>
              <a:gd name="textAreaLeft" fmla="*/ 29520 w 5181480"/>
              <a:gd name="textAreaRight" fmla="*/ 5151960 w 5181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44619" h="21600">
                <a:moveTo>
                  <a:pt x="0" y="0"/>
                </a:moveTo>
                <a:lnTo>
                  <a:pt x="244619" y="0"/>
                </a:lnTo>
                <a:lnTo>
                  <a:pt x="244619" y="21600"/>
                </a:lnTo>
                <a:lnTo>
                  <a:pt x="0" y="21600"/>
                </a:lnTo>
                <a:close/>
              </a:path>
              <a:path fill="lightenLess" w="244619" h="21600">
                <a:moveTo>
                  <a:pt x="0" y="0"/>
                </a:moveTo>
                <a:lnTo>
                  <a:pt x="244619" y="0"/>
                </a:lnTo>
                <a:lnTo>
                  <a:pt x="243219" y="1400"/>
                </a:lnTo>
                <a:lnTo>
                  <a:pt x="1400" y="1400"/>
                </a:lnTo>
                <a:close/>
              </a:path>
              <a:path fill="darken" w="244619" h="21600">
                <a:moveTo>
                  <a:pt x="244619" y="0"/>
                </a:moveTo>
                <a:lnTo>
                  <a:pt x="244619" y="21600"/>
                </a:lnTo>
                <a:lnTo>
                  <a:pt x="243219" y="20200"/>
                </a:lnTo>
                <a:lnTo>
                  <a:pt x="243219" y="1400"/>
                </a:lnTo>
                <a:close/>
              </a:path>
              <a:path fill="darkenLess" w="244619" h="21600">
                <a:moveTo>
                  <a:pt x="2446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3219" y="20200"/>
                </a:lnTo>
                <a:close/>
              </a:path>
              <a:path fill="lighten" w="2446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0" name="AutoShape 12">
            <a:hlinkClick r:id="rId4" action="ppaction://hlinksldjump"/>
          </p:cNvPr>
          <p:cNvSpPr/>
          <p:nvPr/>
        </p:nvSpPr>
        <p:spPr>
          <a:xfrm>
            <a:off x="1219320" y="4800600"/>
            <a:ext cx="5257800" cy="762120"/>
          </a:xfrm>
          <a:custGeom>
            <a:avLst/>
            <a:gdLst>
              <a:gd name="textAreaLeft" fmla="*/ 49320 w 5257800"/>
              <a:gd name="textAreaRight" fmla="*/ 5208480 w 52578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148956" h="21600">
                <a:moveTo>
                  <a:pt x="0" y="0"/>
                </a:moveTo>
                <a:lnTo>
                  <a:pt x="148956" y="0"/>
                </a:lnTo>
                <a:lnTo>
                  <a:pt x="148956" y="21600"/>
                </a:lnTo>
                <a:lnTo>
                  <a:pt x="0" y="21600"/>
                </a:lnTo>
                <a:close/>
              </a:path>
              <a:path fill="lightenLess" w="148956" h="21600">
                <a:moveTo>
                  <a:pt x="0" y="0"/>
                </a:moveTo>
                <a:lnTo>
                  <a:pt x="148956" y="0"/>
                </a:lnTo>
                <a:lnTo>
                  <a:pt x="147556" y="1400"/>
                </a:lnTo>
                <a:lnTo>
                  <a:pt x="1400" y="1400"/>
                </a:lnTo>
                <a:close/>
              </a:path>
              <a:path fill="darken" w="148956" h="21600">
                <a:moveTo>
                  <a:pt x="148956" y="0"/>
                </a:moveTo>
                <a:lnTo>
                  <a:pt x="148956" y="21600"/>
                </a:lnTo>
                <a:lnTo>
                  <a:pt x="147556" y="20200"/>
                </a:lnTo>
                <a:lnTo>
                  <a:pt x="147556" y="1400"/>
                </a:lnTo>
                <a:close/>
              </a:path>
              <a:path fill="darkenLess" w="148956" h="21600">
                <a:moveTo>
                  <a:pt x="1489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47556" y="20200"/>
                </a:lnTo>
                <a:close/>
              </a:path>
              <a:path fill="lighten" w="1489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1" name="Text Box 13"/>
          <p:cNvSpPr/>
          <p:nvPr/>
        </p:nvSpPr>
        <p:spPr>
          <a:xfrm>
            <a:off x="3565440" y="6594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2" name="Text Box 15"/>
          <p:cNvSpPr/>
          <p:nvPr/>
        </p:nvSpPr>
        <p:spPr>
          <a:xfrm>
            <a:off x="3581280" y="5791320"/>
            <a:ext cx="22100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3" name="Text Box 16"/>
          <p:cNvSpPr/>
          <p:nvPr/>
        </p:nvSpPr>
        <p:spPr>
          <a:xfrm>
            <a:off x="3733920" y="5562720"/>
            <a:ext cx="22860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b8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66"/>
                </a:solidFill>
                <a:latin typeface="Comic Sans MS"/>
              </a:rPr>
              <a:t>Click on a choice to advance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1FD82EE5.WAV" descr=""/>
          <p:cNvPicPr/>
          <p:nvPr/>
        </p:nvPicPr>
        <p:blipFill>
          <a:blip r:embed="rId1"/>
          <a:stretch/>
        </p:blipFill>
        <p:spPr>
          <a:xfrm>
            <a:off x="2743200" y="3276720"/>
            <a:ext cx="304920" cy="1371600"/>
          </a:xfrm>
          <a:prstGeom prst="rect">
            <a:avLst/>
          </a:prstGeom>
          <a:ln w="0">
            <a:noFill/>
          </a:ln>
        </p:spPr>
      </p:pic>
      <p:pic>
        <p:nvPicPr>
          <p:cNvPr id="345" name="42CFDADE.WAV" descr=""/>
          <p:cNvPicPr/>
          <p:nvPr/>
        </p:nvPicPr>
        <p:blipFill>
          <a:blip r:embed="rId2"/>
          <a:stretch/>
        </p:blipFill>
        <p:spPr>
          <a:xfrm>
            <a:off x="2666880" y="33526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346" name="8C1EF6B9.WAV" descr=""/>
          <p:cNvPicPr/>
          <p:nvPr/>
        </p:nvPicPr>
        <p:blipFill>
          <a:blip r:embed="rId3"/>
          <a:stretch/>
        </p:blipFill>
        <p:spPr>
          <a:xfrm>
            <a:off x="2209680" y="34290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3" descr=""/>
          <p:cNvPicPr/>
          <p:nvPr/>
        </p:nvPicPr>
        <p:blipFill>
          <a:blip r:embed="rId4"/>
          <a:stretch/>
        </p:blipFill>
        <p:spPr>
          <a:xfrm>
            <a:off x="914400" y="1828800"/>
            <a:ext cx="3273480" cy="3657600"/>
          </a:xfrm>
          <a:prstGeom prst="rect">
            <a:avLst/>
          </a:prstGeom>
          <a:ln w="0">
            <a:noFill/>
          </a:ln>
        </p:spPr>
      </p:pic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Comic Sans MS"/>
              </a:rPr>
              <a:t>B</a:t>
            </a:r>
            <a:r>
              <a:rPr b="1" lang="en-US" sz="7200" spc="-1" strike="noStrike">
                <a:solidFill>
                  <a:srgbClr val="333399"/>
                </a:solidFill>
                <a:latin typeface="Comic Sans MS"/>
              </a:rPr>
              <a:t>R</a:t>
            </a:r>
            <a:r>
              <a:rPr b="1" lang="en-US" sz="7200" spc="-1" strike="noStrike">
                <a:solidFill>
                  <a:srgbClr val="00b200"/>
                </a:solidFill>
                <a:latin typeface="Comic Sans MS"/>
              </a:rPr>
              <a:t>A</a:t>
            </a:r>
            <a:r>
              <a:rPr b="1" lang="en-US" sz="7200" spc="-1" strike="noStrike">
                <a:solidFill>
                  <a:srgbClr val="ffb800"/>
                </a:solidFill>
                <a:latin typeface="Comic Sans MS"/>
              </a:rPr>
              <a:t>V</a:t>
            </a:r>
            <a:r>
              <a:rPr b="1" lang="en-US" sz="7200" spc="-1" strike="noStrike">
                <a:solidFill>
                  <a:srgbClr val="15eb4d"/>
                </a:solidFill>
                <a:latin typeface="Comic Sans MS"/>
              </a:rPr>
              <a:t>O</a:t>
            </a:r>
            <a:r>
              <a:rPr b="1" lang="en-US" sz="7200" spc="-1" strike="noStrike">
                <a:solidFill>
                  <a:srgbClr val="333399"/>
                </a:solidFill>
                <a:latin typeface="Comic Sans MS"/>
              </a:rPr>
              <a:t>!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609800" y="1447920"/>
            <a:ext cx="37717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You know what an </a:t>
            </a: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illustrator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does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Way to go!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0" name="AutoShape 9">
            <a:hlinkClick r:id="rId5" action="ppaction://hlinksldjump"/>
          </p:cNvPr>
          <p:cNvSpPr/>
          <p:nvPr/>
        </p:nvSpPr>
        <p:spPr>
          <a:xfrm>
            <a:off x="2743200" y="5486400"/>
            <a:ext cx="1905120" cy="1066680"/>
          </a:xfrm>
          <a:custGeom>
            <a:avLst/>
            <a:gdLst>
              <a:gd name="textAreaLeft" fmla="*/ 69120 w 1905120"/>
              <a:gd name="textAreaRight" fmla="*/ 1836000 w 19051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38572" h="21600">
                <a:moveTo>
                  <a:pt x="0" y="0"/>
                </a:moveTo>
                <a:lnTo>
                  <a:pt x="38572" y="0"/>
                </a:lnTo>
                <a:lnTo>
                  <a:pt x="38572" y="21600"/>
                </a:lnTo>
                <a:lnTo>
                  <a:pt x="0" y="21600"/>
                </a:lnTo>
                <a:close/>
              </a:path>
              <a:path fill="lightenLess" w="38572" h="21600">
                <a:moveTo>
                  <a:pt x="0" y="0"/>
                </a:moveTo>
                <a:lnTo>
                  <a:pt x="38572" y="0"/>
                </a:lnTo>
                <a:lnTo>
                  <a:pt x="37172" y="1400"/>
                </a:lnTo>
                <a:lnTo>
                  <a:pt x="1400" y="1400"/>
                </a:lnTo>
                <a:close/>
              </a:path>
              <a:path fill="darken" w="38572" h="21600">
                <a:moveTo>
                  <a:pt x="38572" y="0"/>
                </a:moveTo>
                <a:lnTo>
                  <a:pt x="38572" y="21600"/>
                </a:lnTo>
                <a:lnTo>
                  <a:pt x="37172" y="20200"/>
                </a:lnTo>
                <a:lnTo>
                  <a:pt x="37172" y="1400"/>
                </a:lnTo>
                <a:close/>
              </a:path>
              <a:path fill="darkenLess" w="38572" h="21600">
                <a:moveTo>
                  <a:pt x="385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172" y="20200"/>
                </a:lnTo>
                <a:close/>
              </a:path>
              <a:path fill="lighten" w="385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572" h="21600">
                <a:moveTo>
                  <a:pt x="12280" y="3794"/>
                </a:moveTo>
                <a:lnTo>
                  <a:pt x="26293" y="10800"/>
                </a:lnTo>
                <a:lnTo>
                  <a:pt x="12280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ops!  Read this again -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illustrator is the person that draws the pictures in a story book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ometimes there are pictures on every page, and they tell a big part of the story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ometimes there are just a few pictures.  The person that draws them is the illustrator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3" name="AutoShape 7">
            <a:hlinkClick r:id="rId1" action="ppaction://hlinksldjump"/>
          </p:cNvPr>
          <p:cNvSpPr/>
          <p:nvPr/>
        </p:nvSpPr>
        <p:spPr>
          <a:xfrm flipV="1">
            <a:off x="3505320" y="5485680"/>
            <a:ext cx="1752480" cy="762120"/>
          </a:xfrm>
          <a:custGeom>
            <a:avLst/>
            <a:gdLst>
              <a:gd name="textAreaLeft" fmla="*/ 49320 w 1752480"/>
              <a:gd name="textAreaRight" fmla="*/ 1703160 w 17524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49656" h="21600">
                <a:moveTo>
                  <a:pt x="0" y="0"/>
                </a:moveTo>
                <a:lnTo>
                  <a:pt x="49656" y="0"/>
                </a:lnTo>
                <a:lnTo>
                  <a:pt x="49656" y="21600"/>
                </a:lnTo>
                <a:lnTo>
                  <a:pt x="0" y="21600"/>
                </a:lnTo>
                <a:close/>
              </a:path>
              <a:path fill="lightenLess" w="49656" h="21600">
                <a:moveTo>
                  <a:pt x="0" y="0"/>
                </a:moveTo>
                <a:lnTo>
                  <a:pt x="49656" y="0"/>
                </a:lnTo>
                <a:lnTo>
                  <a:pt x="48256" y="1400"/>
                </a:lnTo>
                <a:lnTo>
                  <a:pt x="1400" y="1400"/>
                </a:lnTo>
                <a:close/>
              </a:path>
              <a:path fill="darken" w="49656" h="21600">
                <a:moveTo>
                  <a:pt x="49656" y="0"/>
                </a:moveTo>
                <a:lnTo>
                  <a:pt x="49656" y="21600"/>
                </a:lnTo>
                <a:lnTo>
                  <a:pt x="48256" y="20200"/>
                </a:lnTo>
                <a:lnTo>
                  <a:pt x="48256" y="1400"/>
                </a:lnTo>
                <a:close/>
              </a:path>
              <a:path fill="darkenLess" w="49656" h="21600">
                <a:moveTo>
                  <a:pt x="496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256" y="20200"/>
                </a:lnTo>
                <a:close/>
              </a:path>
              <a:path fill="lighten" w="496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lick here to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nswe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title is the name of the story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739152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title is usually on the front cover of the book and on the spin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title is on a page called 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The Title Pag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right before the beginning of the story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uthors usually choose the title for their book, since they write the words!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6" name="AutoShape 4">
            <a:hlinkClick r:id="rId1" action="ppaction://hlinksldjump"/>
          </p:cNvPr>
          <p:cNvSpPr/>
          <p:nvPr/>
        </p:nvSpPr>
        <p:spPr>
          <a:xfrm>
            <a:off x="3657600" y="6172200"/>
            <a:ext cx="1676520" cy="685800"/>
          </a:xfrm>
          <a:custGeom>
            <a:avLst/>
            <a:gdLst>
              <a:gd name="textAreaLeft" fmla="*/ 44280 w 1676520"/>
              <a:gd name="textAreaRight" fmla="*/ 1632240 w 16765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52787" h="21600">
                <a:moveTo>
                  <a:pt x="0" y="0"/>
                </a:moveTo>
                <a:lnTo>
                  <a:pt x="52787" y="0"/>
                </a:lnTo>
                <a:lnTo>
                  <a:pt x="52787" y="21600"/>
                </a:lnTo>
                <a:lnTo>
                  <a:pt x="0" y="21600"/>
                </a:lnTo>
                <a:close/>
              </a:path>
              <a:path fill="lightenLess" w="52787" h="21600">
                <a:moveTo>
                  <a:pt x="0" y="0"/>
                </a:moveTo>
                <a:lnTo>
                  <a:pt x="52787" y="0"/>
                </a:lnTo>
                <a:lnTo>
                  <a:pt x="51387" y="1400"/>
                </a:lnTo>
                <a:lnTo>
                  <a:pt x="1400" y="1400"/>
                </a:lnTo>
                <a:close/>
              </a:path>
              <a:path fill="darken" w="52787" h="21600">
                <a:moveTo>
                  <a:pt x="52787" y="0"/>
                </a:moveTo>
                <a:lnTo>
                  <a:pt x="52787" y="21600"/>
                </a:lnTo>
                <a:lnTo>
                  <a:pt x="51387" y="20200"/>
                </a:lnTo>
                <a:lnTo>
                  <a:pt x="51387" y="1400"/>
                </a:lnTo>
                <a:close/>
              </a:path>
              <a:path fill="darkenLess" w="52787" h="21600">
                <a:moveTo>
                  <a:pt x="527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387" y="20200"/>
                </a:lnTo>
                <a:close/>
              </a:path>
              <a:path fill="lighten" w="527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787" h="21600">
                <a:moveTo>
                  <a:pt x="19387" y="3794"/>
                </a:moveTo>
                <a:lnTo>
                  <a:pt x="33400" y="10800"/>
                </a:lnTo>
                <a:lnTo>
                  <a:pt x="19387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-686160" y="-360"/>
            <a:ext cx="9829800" cy="152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8" name="Picture 9" descr="spiderfly"/>
          <p:cNvPicPr/>
          <p:nvPr/>
        </p:nvPicPr>
        <p:blipFill>
          <a:blip r:embed="rId1"/>
          <a:stretch/>
        </p:blipFill>
        <p:spPr>
          <a:xfrm>
            <a:off x="990720" y="990720"/>
            <a:ext cx="2209680" cy="175248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10" descr="043920352X"/>
          <p:cNvPicPr/>
          <p:nvPr/>
        </p:nvPicPr>
        <p:blipFill>
          <a:blip r:embed="rId2"/>
          <a:stretch/>
        </p:blipFill>
        <p:spPr>
          <a:xfrm>
            <a:off x="5334120" y="990720"/>
            <a:ext cx="1981080" cy="175248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1" descr="0618005595"/>
          <p:cNvPicPr/>
          <p:nvPr/>
        </p:nvPicPr>
        <p:blipFill>
          <a:blip r:embed="rId3"/>
          <a:stretch/>
        </p:blipFill>
        <p:spPr>
          <a:xfrm>
            <a:off x="990720" y="3429000"/>
            <a:ext cx="2212920" cy="160020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4" descr="1570612935"/>
          <p:cNvPicPr/>
          <p:nvPr/>
        </p:nvPicPr>
        <p:blipFill>
          <a:blip r:embed="rId4"/>
          <a:stretch/>
        </p:blipFill>
        <p:spPr>
          <a:xfrm>
            <a:off x="5257800" y="3276720"/>
            <a:ext cx="1903320" cy="1752480"/>
          </a:xfrm>
          <a:prstGeom prst="rect">
            <a:avLst/>
          </a:prstGeom>
          <a:ln w="0">
            <a:noFill/>
          </a:ln>
        </p:spPr>
      </p:pic>
      <p:sp>
        <p:nvSpPr>
          <p:cNvPr id="212" name="Text Box 15"/>
          <p:cNvSpPr/>
          <p:nvPr/>
        </p:nvSpPr>
        <p:spPr>
          <a:xfrm>
            <a:off x="1143000" y="281952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icture book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Text Box 16"/>
          <p:cNvSpPr/>
          <p:nvPr/>
        </p:nvSpPr>
        <p:spPr>
          <a:xfrm flipH="1" flipV="1">
            <a:off x="5486400" y="2747880"/>
            <a:ext cx="147960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Text Box 17"/>
          <p:cNvSpPr/>
          <p:nvPr/>
        </p:nvSpPr>
        <p:spPr>
          <a:xfrm>
            <a:off x="5105520" y="28195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hapter book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Text Box 18"/>
          <p:cNvSpPr/>
          <p:nvPr/>
        </p:nvSpPr>
        <p:spPr>
          <a:xfrm>
            <a:off x="990720" y="495288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on-fiction (Information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Text Box 19"/>
          <p:cNvSpPr/>
          <p:nvPr/>
        </p:nvSpPr>
        <p:spPr>
          <a:xfrm>
            <a:off x="5486400" y="51055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iography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Text Box 20"/>
          <p:cNvSpPr/>
          <p:nvPr/>
        </p:nvSpPr>
        <p:spPr>
          <a:xfrm>
            <a:off x="1447920" y="0"/>
            <a:ext cx="5638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amples of books from each sec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AutoShape 21">
            <a:hlinkClick r:id="" action="ppaction://hlinkshowjump?jump=nextslide"/>
          </p:cNvPr>
          <p:cNvSpPr/>
          <p:nvPr/>
        </p:nvSpPr>
        <p:spPr>
          <a:xfrm>
            <a:off x="3429000" y="5943600"/>
            <a:ext cx="1676520" cy="914400"/>
          </a:xfrm>
          <a:custGeom>
            <a:avLst/>
            <a:gdLst>
              <a:gd name="textAreaLeft" fmla="*/ 59040 w 1676520"/>
              <a:gd name="textAreaRight" fmla="*/ 1617480 w 16765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9596" h="21600">
                <a:moveTo>
                  <a:pt x="0" y="0"/>
                </a:moveTo>
                <a:lnTo>
                  <a:pt x="39596" y="0"/>
                </a:lnTo>
                <a:lnTo>
                  <a:pt x="39596" y="21600"/>
                </a:lnTo>
                <a:lnTo>
                  <a:pt x="0" y="21600"/>
                </a:lnTo>
                <a:close/>
              </a:path>
              <a:path fill="lightenLess" w="39596" h="21600">
                <a:moveTo>
                  <a:pt x="0" y="0"/>
                </a:moveTo>
                <a:lnTo>
                  <a:pt x="39596" y="0"/>
                </a:lnTo>
                <a:lnTo>
                  <a:pt x="38196" y="1400"/>
                </a:lnTo>
                <a:lnTo>
                  <a:pt x="1400" y="1400"/>
                </a:lnTo>
                <a:close/>
              </a:path>
              <a:path fill="darken" w="39596" h="21600">
                <a:moveTo>
                  <a:pt x="39596" y="0"/>
                </a:moveTo>
                <a:lnTo>
                  <a:pt x="39596" y="21600"/>
                </a:lnTo>
                <a:lnTo>
                  <a:pt x="38196" y="20200"/>
                </a:lnTo>
                <a:lnTo>
                  <a:pt x="38196" y="1400"/>
                </a:lnTo>
                <a:close/>
              </a:path>
              <a:path fill="darkenLess" w="39596" h="21600">
                <a:moveTo>
                  <a:pt x="395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96" y="20200"/>
                </a:lnTo>
                <a:close/>
              </a:path>
              <a:path fill="lighten" w="395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96" h="21600">
                <a:moveTo>
                  <a:pt x="12791" y="3794"/>
                </a:moveTo>
                <a:lnTo>
                  <a:pt x="26804" y="10800"/>
                </a:lnTo>
                <a:lnTo>
                  <a:pt x="12791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7086600" cy="15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33"/>
                </a:solidFill>
                <a:latin typeface="Comic Sans MS"/>
              </a:rPr>
              <a:t>The title (name) of this book is </a:t>
            </a:r>
            <a:br>
              <a:rPr sz="3600"/>
            </a:br>
            <a:r>
              <a:rPr b="0" i="1" lang="en-US" sz="3600" spc="-1" strike="noStrike">
                <a:solidFill>
                  <a:srgbClr val="660033"/>
                </a:solidFill>
                <a:latin typeface="Comic Sans MS"/>
              </a:rPr>
              <a:t>The Spider and the Fly</a:t>
            </a:r>
            <a:br>
              <a:rPr sz="3600"/>
            </a:br>
            <a:r>
              <a:rPr b="0" lang="en-US" sz="2000" spc="-1" strike="noStrike">
                <a:solidFill>
                  <a:srgbClr val="660033"/>
                </a:solidFill>
                <a:latin typeface="Comic Sans MS"/>
              </a:rPr>
              <a:t>(this is a picture of the front cover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58" name="Picture 4" descr="spiderfly"/>
          <p:cNvPicPr/>
          <p:nvPr/>
        </p:nvPicPr>
        <p:blipFill>
          <a:blip r:embed="rId1"/>
          <a:stretch/>
        </p:blipFill>
        <p:spPr>
          <a:xfrm>
            <a:off x="2362320" y="2133720"/>
            <a:ext cx="4125960" cy="3733560"/>
          </a:xfrm>
          <a:prstGeom prst="rect">
            <a:avLst/>
          </a:prstGeom>
          <a:ln w="0">
            <a:noFill/>
          </a:ln>
        </p:spPr>
      </p:pic>
      <p:sp>
        <p:nvSpPr>
          <p:cNvPr id="359" name="AutoShape 7">
            <a:hlinkClick r:id="" action="ppaction://hlinkshowjump?jump=nextslide"/>
          </p:cNvPr>
          <p:cNvSpPr/>
          <p:nvPr/>
        </p:nvSpPr>
        <p:spPr>
          <a:xfrm>
            <a:off x="3581280" y="5867280"/>
            <a:ext cx="2033640" cy="990720"/>
          </a:xfrm>
          <a:custGeom>
            <a:avLst/>
            <a:gdLst>
              <a:gd name="textAreaLeft" fmla="*/ 64080 w 2033640"/>
              <a:gd name="textAreaRight" fmla="*/ 1969560 w 203364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44330" h="21600">
                <a:moveTo>
                  <a:pt x="0" y="0"/>
                </a:moveTo>
                <a:lnTo>
                  <a:pt x="44330" y="0"/>
                </a:lnTo>
                <a:lnTo>
                  <a:pt x="44330" y="21600"/>
                </a:lnTo>
                <a:lnTo>
                  <a:pt x="0" y="21600"/>
                </a:lnTo>
                <a:close/>
              </a:path>
              <a:path fill="lightenLess" w="44330" h="21600">
                <a:moveTo>
                  <a:pt x="0" y="0"/>
                </a:moveTo>
                <a:lnTo>
                  <a:pt x="44330" y="0"/>
                </a:lnTo>
                <a:lnTo>
                  <a:pt x="42930" y="1400"/>
                </a:lnTo>
                <a:lnTo>
                  <a:pt x="1400" y="1400"/>
                </a:lnTo>
                <a:close/>
              </a:path>
              <a:path fill="darken" w="44330" h="21600">
                <a:moveTo>
                  <a:pt x="44330" y="0"/>
                </a:moveTo>
                <a:lnTo>
                  <a:pt x="44330" y="21600"/>
                </a:lnTo>
                <a:lnTo>
                  <a:pt x="42930" y="20200"/>
                </a:lnTo>
                <a:lnTo>
                  <a:pt x="42930" y="1400"/>
                </a:lnTo>
                <a:close/>
              </a:path>
              <a:path fill="darkenLess" w="44330" h="21600">
                <a:moveTo>
                  <a:pt x="443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2930" y="20200"/>
                </a:lnTo>
                <a:close/>
              </a:path>
              <a:path fill="lighten" w="443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4330" h="21600">
                <a:moveTo>
                  <a:pt x="15158" y="3794"/>
                </a:moveTo>
                <a:lnTo>
                  <a:pt x="29171" y="10800"/>
                </a:lnTo>
                <a:lnTo>
                  <a:pt x="15158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b200"/>
                </a:solidFill>
                <a:latin typeface="Comic Sans MS"/>
              </a:rPr>
              <a:t>What is a title?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title is the name of the stor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title is the name of the person who wrote the stor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title doesn</a:t>
            </a:r>
            <a:r>
              <a:rPr b="0" lang="ja-JP" sz="3200" spc="-1" strike="noStrike">
                <a:solidFill>
                  <a:srgbClr val="000000"/>
                </a:solidFill>
                <a:latin typeface="Comic Sans MS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 show up on the cover or the spine of the boo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title is the wrapping at the stor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2" name="AutoShape 4">
            <a:hlinkClick r:id="rId1" action="ppaction://hlinksldjump"/>
          </p:cNvPr>
          <p:cNvSpPr/>
          <p:nvPr/>
        </p:nvSpPr>
        <p:spPr>
          <a:xfrm>
            <a:off x="1066680" y="1905120"/>
            <a:ext cx="6248520" cy="457200"/>
          </a:xfrm>
          <a:custGeom>
            <a:avLst/>
            <a:gdLst>
              <a:gd name="textAreaLeft" fmla="*/ 29520 w 6248520"/>
              <a:gd name="textAreaRight" fmla="*/ 6219000 w 6248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94990" h="21600">
                <a:moveTo>
                  <a:pt x="0" y="0"/>
                </a:moveTo>
                <a:lnTo>
                  <a:pt x="294990" y="0"/>
                </a:lnTo>
                <a:lnTo>
                  <a:pt x="294990" y="21600"/>
                </a:lnTo>
                <a:lnTo>
                  <a:pt x="0" y="21600"/>
                </a:lnTo>
                <a:close/>
              </a:path>
              <a:path fill="lightenLess" w="294990" h="21600">
                <a:moveTo>
                  <a:pt x="0" y="0"/>
                </a:moveTo>
                <a:lnTo>
                  <a:pt x="294990" y="0"/>
                </a:lnTo>
                <a:lnTo>
                  <a:pt x="293590" y="1400"/>
                </a:lnTo>
                <a:lnTo>
                  <a:pt x="1400" y="1400"/>
                </a:lnTo>
                <a:close/>
              </a:path>
              <a:path fill="darken" w="294990" h="21600">
                <a:moveTo>
                  <a:pt x="294990" y="0"/>
                </a:moveTo>
                <a:lnTo>
                  <a:pt x="294990" y="21600"/>
                </a:lnTo>
                <a:lnTo>
                  <a:pt x="293590" y="20200"/>
                </a:lnTo>
                <a:lnTo>
                  <a:pt x="293590" y="1400"/>
                </a:lnTo>
                <a:close/>
              </a:path>
              <a:path fill="darkenLess" w="294990" h="21600">
                <a:moveTo>
                  <a:pt x="2949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3590" y="20200"/>
                </a:lnTo>
                <a:close/>
              </a:path>
              <a:path fill="lighten" w="2949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3" name="AutoShape 5">
            <a:hlinkClick r:id="rId2" action="ppaction://hlinksldjump"/>
          </p:cNvPr>
          <p:cNvSpPr/>
          <p:nvPr/>
        </p:nvSpPr>
        <p:spPr>
          <a:xfrm>
            <a:off x="1143000" y="2666880"/>
            <a:ext cx="6172200" cy="609840"/>
          </a:xfrm>
          <a:custGeom>
            <a:avLst/>
            <a:gdLst>
              <a:gd name="textAreaLeft" fmla="*/ 39240 w 6172200"/>
              <a:gd name="textAreaRight" fmla="*/ 6132960 w 617220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18498" h="21600">
                <a:moveTo>
                  <a:pt x="0" y="0"/>
                </a:moveTo>
                <a:lnTo>
                  <a:pt x="218498" y="0"/>
                </a:lnTo>
                <a:lnTo>
                  <a:pt x="218498" y="21600"/>
                </a:lnTo>
                <a:lnTo>
                  <a:pt x="0" y="21600"/>
                </a:lnTo>
                <a:close/>
              </a:path>
              <a:path fill="lightenLess" w="218498" h="21600">
                <a:moveTo>
                  <a:pt x="0" y="0"/>
                </a:moveTo>
                <a:lnTo>
                  <a:pt x="218498" y="0"/>
                </a:lnTo>
                <a:lnTo>
                  <a:pt x="217098" y="1400"/>
                </a:lnTo>
                <a:lnTo>
                  <a:pt x="1400" y="1400"/>
                </a:lnTo>
                <a:close/>
              </a:path>
              <a:path fill="darken" w="218498" h="21600">
                <a:moveTo>
                  <a:pt x="218498" y="0"/>
                </a:moveTo>
                <a:lnTo>
                  <a:pt x="218498" y="21600"/>
                </a:lnTo>
                <a:lnTo>
                  <a:pt x="217098" y="20200"/>
                </a:lnTo>
                <a:lnTo>
                  <a:pt x="217098" y="1400"/>
                </a:lnTo>
                <a:close/>
              </a:path>
              <a:path fill="darkenLess" w="218498" h="21600">
                <a:moveTo>
                  <a:pt x="2184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7098" y="20200"/>
                </a:lnTo>
                <a:close/>
              </a:path>
              <a:path fill="lighten" w="2184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4" name="AutoShape 6">
            <a:hlinkClick r:id="rId3" action="ppaction://hlinksldjump"/>
          </p:cNvPr>
          <p:cNvSpPr/>
          <p:nvPr/>
        </p:nvSpPr>
        <p:spPr>
          <a:xfrm>
            <a:off x="1219320" y="3505320"/>
            <a:ext cx="5867280" cy="914400"/>
          </a:xfrm>
          <a:custGeom>
            <a:avLst/>
            <a:gdLst>
              <a:gd name="textAreaLeft" fmla="*/ 59040 w 5867280"/>
              <a:gd name="textAreaRight" fmla="*/ 5808240 w 586728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138551" h="21600">
                <a:moveTo>
                  <a:pt x="0" y="0"/>
                </a:moveTo>
                <a:lnTo>
                  <a:pt x="138551" y="0"/>
                </a:lnTo>
                <a:lnTo>
                  <a:pt x="138551" y="21600"/>
                </a:lnTo>
                <a:lnTo>
                  <a:pt x="0" y="21600"/>
                </a:lnTo>
                <a:close/>
              </a:path>
              <a:path fill="lightenLess" w="138551" h="21600">
                <a:moveTo>
                  <a:pt x="0" y="0"/>
                </a:moveTo>
                <a:lnTo>
                  <a:pt x="138551" y="0"/>
                </a:lnTo>
                <a:lnTo>
                  <a:pt x="137151" y="1400"/>
                </a:lnTo>
                <a:lnTo>
                  <a:pt x="1400" y="1400"/>
                </a:lnTo>
                <a:close/>
              </a:path>
              <a:path fill="darken" w="138551" h="21600">
                <a:moveTo>
                  <a:pt x="138551" y="0"/>
                </a:moveTo>
                <a:lnTo>
                  <a:pt x="138551" y="21600"/>
                </a:lnTo>
                <a:lnTo>
                  <a:pt x="137151" y="20200"/>
                </a:lnTo>
                <a:lnTo>
                  <a:pt x="137151" y="1400"/>
                </a:lnTo>
                <a:close/>
              </a:path>
              <a:path fill="darkenLess" w="138551" h="21600">
                <a:moveTo>
                  <a:pt x="1385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7151" y="20200"/>
                </a:lnTo>
                <a:close/>
              </a:path>
              <a:path fill="lighten" w="1385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5" name="AutoShape 7">
            <a:hlinkClick r:id="rId4" action="ppaction://hlinksldjump"/>
          </p:cNvPr>
          <p:cNvSpPr/>
          <p:nvPr/>
        </p:nvSpPr>
        <p:spPr>
          <a:xfrm>
            <a:off x="1219320" y="4724280"/>
            <a:ext cx="5790960" cy="457200"/>
          </a:xfrm>
          <a:custGeom>
            <a:avLst/>
            <a:gdLst>
              <a:gd name="textAreaLeft" fmla="*/ 29520 w 5790960"/>
              <a:gd name="textAreaRight" fmla="*/ 5761440 w 57909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73390" h="21600">
                <a:moveTo>
                  <a:pt x="0" y="0"/>
                </a:moveTo>
                <a:lnTo>
                  <a:pt x="273390" y="0"/>
                </a:lnTo>
                <a:lnTo>
                  <a:pt x="273390" y="21600"/>
                </a:lnTo>
                <a:lnTo>
                  <a:pt x="0" y="21600"/>
                </a:lnTo>
                <a:close/>
              </a:path>
              <a:path fill="lightenLess" w="273390" h="21600">
                <a:moveTo>
                  <a:pt x="0" y="0"/>
                </a:moveTo>
                <a:lnTo>
                  <a:pt x="273390" y="0"/>
                </a:lnTo>
                <a:lnTo>
                  <a:pt x="271990" y="1400"/>
                </a:lnTo>
                <a:lnTo>
                  <a:pt x="1400" y="1400"/>
                </a:lnTo>
                <a:close/>
              </a:path>
              <a:path fill="darken" w="273390" h="21600">
                <a:moveTo>
                  <a:pt x="273390" y="0"/>
                </a:moveTo>
                <a:lnTo>
                  <a:pt x="273390" y="21600"/>
                </a:lnTo>
                <a:lnTo>
                  <a:pt x="271990" y="20200"/>
                </a:lnTo>
                <a:lnTo>
                  <a:pt x="271990" y="1400"/>
                </a:lnTo>
                <a:close/>
              </a:path>
              <a:path fill="darkenLess" w="273390" h="21600">
                <a:moveTo>
                  <a:pt x="2733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1990" y="20200"/>
                </a:lnTo>
                <a:close/>
              </a:path>
              <a:path fill="lighten" w="2733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" name="Text Box 8"/>
          <p:cNvSpPr/>
          <p:nvPr/>
        </p:nvSpPr>
        <p:spPr>
          <a:xfrm>
            <a:off x="3733920" y="5791320"/>
            <a:ext cx="2133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7" name="Text Box 9"/>
          <p:cNvSpPr/>
          <p:nvPr/>
        </p:nvSpPr>
        <p:spPr>
          <a:xfrm>
            <a:off x="2819520" y="5867280"/>
            <a:ext cx="327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8" name="Text Box 10"/>
          <p:cNvSpPr/>
          <p:nvPr/>
        </p:nvSpPr>
        <p:spPr>
          <a:xfrm>
            <a:off x="2743200" y="5791320"/>
            <a:ext cx="350532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b8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66"/>
                </a:solidFill>
                <a:latin typeface="Comic Sans MS"/>
              </a:rPr>
              <a:t>Click on choice to answe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8C1EF6B9.WAV" descr=""/>
          <p:cNvPicPr/>
          <p:nvPr/>
        </p:nvPicPr>
        <p:blipFill>
          <a:blip r:embed="rId1"/>
          <a:stretch/>
        </p:blipFill>
        <p:spPr>
          <a:xfrm>
            <a:off x="2209680" y="34290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Comic Sans MS"/>
              </a:rPr>
              <a:t>Great Work!!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71" name="Picture 3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5181840" cy="3657600"/>
          </a:xfrm>
          <a:prstGeom prst="rect">
            <a:avLst/>
          </a:prstGeom>
          <a:ln w="0">
            <a:noFill/>
          </a:ln>
        </p:spPr>
      </p:pic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609800" y="1828800"/>
            <a:ext cx="37717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73" name="358B8C66.WAV" descr=""/>
          <p:cNvPicPr/>
          <p:nvPr/>
        </p:nvPicPr>
        <p:blipFill>
          <a:blip r:embed="rId3"/>
          <a:stretch/>
        </p:blipFill>
        <p:spPr>
          <a:xfrm>
            <a:off x="4419720" y="80010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374" name="358B8C66.WAV" descr=""/>
          <p:cNvPicPr/>
          <p:nvPr/>
        </p:nvPicPr>
        <p:blipFill>
          <a:blip r:embed="rId4"/>
          <a:stretch/>
        </p:blipFill>
        <p:spPr>
          <a:xfrm>
            <a:off x="4343400" y="83059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375" name="358B8C66.WAV" descr=""/>
          <p:cNvPicPr/>
          <p:nvPr/>
        </p:nvPicPr>
        <p:blipFill>
          <a:blip r:embed="rId5"/>
          <a:stretch/>
        </p:blipFill>
        <p:spPr>
          <a:xfrm>
            <a:off x="4495680" y="81532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376" name="AutoShape 9">
            <a:hlinkClick r:id="rId6" action="ppaction://hlinksldjump"/>
          </p:cNvPr>
          <p:cNvSpPr/>
          <p:nvPr/>
        </p:nvSpPr>
        <p:spPr>
          <a:xfrm>
            <a:off x="3429000" y="5867280"/>
            <a:ext cx="1752480" cy="762120"/>
          </a:xfrm>
          <a:custGeom>
            <a:avLst/>
            <a:gdLst>
              <a:gd name="textAreaLeft" fmla="*/ 49320 w 1752480"/>
              <a:gd name="textAreaRight" fmla="*/ 1703160 w 17524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49656" h="21600">
                <a:moveTo>
                  <a:pt x="0" y="0"/>
                </a:moveTo>
                <a:lnTo>
                  <a:pt x="49656" y="0"/>
                </a:lnTo>
                <a:lnTo>
                  <a:pt x="49656" y="21600"/>
                </a:lnTo>
                <a:lnTo>
                  <a:pt x="0" y="21600"/>
                </a:lnTo>
                <a:close/>
              </a:path>
              <a:path fill="lightenLess" w="49656" h="21600">
                <a:moveTo>
                  <a:pt x="0" y="0"/>
                </a:moveTo>
                <a:lnTo>
                  <a:pt x="49656" y="0"/>
                </a:lnTo>
                <a:lnTo>
                  <a:pt x="48256" y="1400"/>
                </a:lnTo>
                <a:lnTo>
                  <a:pt x="1400" y="1400"/>
                </a:lnTo>
                <a:close/>
              </a:path>
              <a:path fill="darken" w="49656" h="21600">
                <a:moveTo>
                  <a:pt x="49656" y="0"/>
                </a:moveTo>
                <a:lnTo>
                  <a:pt x="49656" y="21600"/>
                </a:lnTo>
                <a:lnTo>
                  <a:pt x="48256" y="20200"/>
                </a:lnTo>
                <a:lnTo>
                  <a:pt x="48256" y="1400"/>
                </a:lnTo>
                <a:close/>
              </a:path>
              <a:path fill="darkenLess" w="49656" h="21600">
                <a:moveTo>
                  <a:pt x="496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256" y="20200"/>
                </a:lnTo>
                <a:close/>
              </a:path>
              <a:path fill="lighten" w="496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9656" h="21600">
                <a:moveTo>
                  <a:pt x="17821" y="3794"/>
                </a:moveTo>
                <a:lnTo>
                  <a:pt x="31834" y="10800"/>
                </a:lnTo>
                <a:lnTo>
                  <a:pt x="17821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You have learned five book parts and words about books!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85800" y="2666880"/>
            <a:ext cx="377208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spin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cov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autho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illustrator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titl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5371920" y="1828800"/>
            <a:ext cx="37717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0" name="AutoShape 4">
            <a:hlinkClick r:id="" action="ppaction://hlinkshowjump?jump=nextslide"/>
          </p:cNvPr>
          <p:cNvSpPr/>
          <p:nvPr/>
        </p:nvSpPr>
        <p:spPr>
          <a:xfrm>
            <a:off x="396252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13610" y="3794"/>
                </a:moveTo>
                <a:lnTo>
                  <a:pt x="27623" y="10800"/>
                </a:lnTo>
                <a:lnTo>
                  <a:pt x="13610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81" name="Picture 7" descr="j0290702[1]"/>
          <p:cNvPicPr/>
          <p:nvPr/>
        </p:nvPicPr>
        <p:blipFill>
          <a:blip r:embed="rId1"/>
          <a:stretch/>
        </p:blipFill>
        <p:spPr>
          <a:xfrm>
            <a:off x="5037120" y="2813040"/>
            <a:ext cx="2916360" cy="16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-360" y="1143000"/>
            <a:ext cx="8458200" cy="4495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Congratulations!</a:t>
            </a: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This is the end of part one.</a:t>
            </a: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Give yourself a pat on the back and a </a:t>
            </a:r>
            <a:r>
              <a:rPr b="0" lang="ja-JP" sz="4000" spc="-1" strike="noStrike">
                <a:solidFill>
                  <a:srgbClr val="ff0000"/>
                </a:solidFill>
                <a:latin typeface="Comic Sans MS"/>
              </a:rPr>
              <a:t>“</a:t>
            </a: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round</a:t>
            </a:r>
            <a:r>
              <a:rPr b="0" lang="ja-JP" sz="4000" spc="-1" strike="noStrike">
                <a:solidFill>
                  <a:srgbClr val="ff0000"/>
                </a:solidFill>
                <a:latin typeface="Comic Sans MS"/>
              </a:rPr>
              <a:t>”</a:t>
            </a: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 of library applause!</a:t>
            </a:r>
            <a:br>
              <a:rPr sz="4000"/>
            </a:b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ake a break and tell your classmates and teacher what you learned today, then you     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will be ready to start section two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3" name="AutoShape 11">
            <a:hlinkClick r:id="rId1" action="ppaction://hlinksldjump"/>
          </p:cNvPr>
          <p:cNvSpPr/>
          <p:nvPr/>
        </p:nvSpPr>
        <p:spPr>
          <a:xfrm>
            <a:off x="1828800" y="5638680"/>
            <a:ext cx="2362320" cy="762120"/>
          </a:xfrm>
          <a:custGeom>
            <a:avLst/>
            <a:gdLst>
              <a:gd name="textAreaLeft" fmla="*/ 49320 w 2362320"/>
              <a:gd name="textAreaRight" fmla="*/ 2313000 w 23623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66931" h="21600">
                <a:moveTo>
                  <a:pt x="0" y="0"/>
                </a:moveTo>
                <a:lnTo>
                  <a:pt x="66931" y="0"/>
                </a:lnTo>
                <a:lnTo>
                  <a:pt x="66931" y="21600"/>
                </a:lnTo>
                <a:lnTo>
                  <a:pt x="0" y="21600"/>
                </a:lnTo>
                <a:close/>
              </a:path>
              <a:path fill="lightenLess" w="66931" h="21600">
                <a:moveTo>
                  <a:pt x="0" y="0"/>
                </a:moveTo>
                <a:lnTo>
                  <a:pt x="66931" y="0"/>
                </a:lnTo>
                <a:lnTo>
                  <a:pt x="65532" y="1400"/>
                </a:lnTo>
                <a:lnTo>
                  <a:pt x="1400" y="1400"/>
                </a:lnTo>
                <a:close/>
              </a:path>
              <a:path fill="darken" w="66931" h="21600">
                <a:moveTo>
                  <a:pt x="66931" y="0"/>
                </a:moveTo>
                <a:lnTo>
                  <a:pt x="66931" y="21600"/>
                </a:lnTo>
                <a:lnTo>
                  <a:pt x="65532" y="20200"/>
                </a:lnTo>
                <a:lnTo>
                  <a:pt x="65532" y="1400"/>
                </a:lnTo>
                <a:close/>
              </a:path>
              <a:path fill="darkenLess" w="66931" h="21600">
                <a:moveTo>
                  <a:pt x="669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5532" y="20200"/>
                </a:lnTo>
                <a:close/>
              </a:path>
              <a:path fill="lighten" w="669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art part 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4" name="AutoShape 13">
            <a:hlinkClick r:id="" action="ppaction://hlinkshowjump?jump=firstslide"/>
          </p:cNvPr>
          <p:cNvSpPr/>
          <p:nvPr/>
        </p:nvSpPr>
        <p:spPr>
          <a:xfrm>
            <a:off x="4648320" y="5638680"/>
            <a:ext cx="2361960" cy="762120"/>
          </a:xfrm>
          <a:custGeom>
            <a:avLst/>
            <a:gdLst>
              <a:gd name="textAreaLeft" fmla="*/ 49320 w 2361960"/>
              <a:gd name="textAreaRight" fmla="*/ 2312640 w 236196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66921" h="21600">
                <a:moveTo>
                  <a:pt x="0" y="0"/>
                </a:moveTo>
                <a:lnTo>
                  <a:pt x="66921" y="0"/>
                </a:lnTo>
                <a:lnTo>
                  <a:pt x="66921" y="21600"/>
                </a:lnTo>
                <a:lnTo>
                  <a:pt x="0" y="21600"/>
                </a:lnTo>
                <a:close/>
              </a:path>
              <a:path fill="lightenLess" w="66921" h="21600">
                <a:moveTo>
                  <a:pt x="0" y="0"/>
                </a:moveTo>
                <a:lnTo>
                  <a:pt x="66921" y="0"/>
                </a:lnTo>
                <a:lnTo>
                  <a:pt x="65521" y="1400"/>
                </a:lnTo>
                <a:lnTo>
                  <a:pt x="1400" y="1400"/>
                </a:lnTo>
                <a:close/>
              </a:path>
              <a:path fill="darken" w="66921" h="21600">
                <a:moveTo>
                  <a:pt x="66921" y="0"/>
                </a:moveTo>
                <a:lnTo>
                  <a:pt x="66921" y="21600"/>
                </a:lnTo>
                <a:lnTo>
                  <a:pt x="65521" y="20200"/>
                </a:lnTo>
                <a:lnTo>
                  <a:pt x="65521" y="1400"/>
                </a:lnTo>
                <a:close/>
              </a:path>
              <a:path fill="darkenLess" w="66921" h="21600">
                <a:moveTo>
                  <a:pt x="669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5521" y="20200"/>
                </a:lnTo>
                <a:close/>
              </a:path>
              <a:path fill="lighten" w="669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6921" h="21600">
                <a:moveTo>
                  <a:pt x="33461" y="3837"/>
                </a:moveTo>
                <a:lnTo>
                  <a:pt x="36037" y="6448"/>
                </a:lnTo>
                <a:lnTo>
                  <a:pt x="36037" y="4707"/>
                </a:lnTo>
                <a:lnTo>
                  <a:pt x="37812" y="4707"/>
                </a:lnTo>
                <a:lnTo>
                  <a:pt x="37812" y="8224"/>
                </a:lnTo>
                <a:lnTo>
                  <a:pt x="40424" y="10800"/>
                </a:lnTo>
                <a:lnTo>
                  <a:pt x="38770" y="10800"/>
                </a:lnTo>
                <a:lnTo>
                  <a:pt x="38770" y="17989"/>
                </a:lnTo>
                <a:lnTo>
                  <a:pt x="28151" y="17989"/>
                </a:lnTo>
                <a:lnTo>
                  <a:pt x="28151" y="10800"/>
                </a:lnTo>
                <a:lnTo>
                  <a:pt x="26498" y="10800"/>
                </a:lnTo>
                <a:close/>
              </a:path>
              <a:path fill="darkenLess" w="66921" h="21600">
                <a:moveTo>
                  <a:pt x="36037" y="6448"/>
                </a:moveTo>
                <a:lnTo>
                  <a:pt x="36037" y="4707"/>
                </a:lnTo>
                <a:lnTo>
                  <a:pt x="37812" y="4707"/>
                </a:lnTo>
                <a:lnTo>
                  <a:pt x="37812" y="8224"/>
                </a:lnTo>
                <a:close/>
              </a:path>
              <a:path fill="darkenLess" w="66921" h="21600">
                <a:moveTo>
                  <a:pt x="32538" y="14299"/>
                </a:moveTo>
                <a:lnTo>
                  <a:pt x="34383" y="14299"/>
                </a:lnTo>
                <a:lnTo>
                  <a:pt x="34383" y="17989"/>
                </a:lnTo>
                <a:lnTo>
                  <a:pt x="38770" y="17989"/>
                </a:lnTo>
                <a:lnTo>
                  <a:pt x="38770" y="10800"/>
                </a:lnTo>
                <a:lnTo>
                  <a:pt x="28151" y="10800"/>
                </a:lnTo>
                <a:lnTo>
                  <a:pt x="28151" y="17989"/>
                </a:lnTo>
                <a:lnTo>
                  <a:pt x="32538" y="17989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ops!  Read again to learn about the title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1371240" y="1980720"/>
            <a:ext cx="70102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title is the name of the story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title is on a page called 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The Title Pag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right before the beginning of the story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title is usually on the front cover of the book and on the spin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7" name="AutoShape 4">
            <a:hlinkClick r:id="rId1" action="ppaction://hlinksldjump"/>
          </p:cNvPr>
          <p:cNvSpPr/>
          <p:nvPr/>
        </p:nvSpPr>
        <p:spPr>
          <a:xfrm>
            <a:off x="3581280" y="5562720"/>
            <a:ext cx="1828800" cy="990360"/>
          </a:xfrm>
          <a:custGeom>
            <a:avLst/>
            <a:gdLst>
              <a:gd name="textAreaLeft" fmla="*/ 64080 w 1828800"/>
              <a:gd name="textAreaRight" fmla="*/ 1764720 w 182880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39880" h="21600">
                <a:moveTo>
                  <a:pt x="0" y="0"/>
                </a:moveTo>
                <a:lnTo>
                  <a:pt x="39880" y="0"/>
                </a:lnTo>
                <a:lnTo>
                  <a:pt x="39880" y="21600"/>
                </a:lnTo>
                <a:lnTo>
                  <a:pt x="0" y="21600"/>
                </a:lnTo>
                <a:close/>
              </a:path>
              <a:path fill="lightenLess" w="39880" h="21600">
                <a:moveTo>
                  <a:pt x="0" y="0"/>
                </a:moveTo>
                <a:lnTo>
                  <a:pt x="39880" y="0"/>
                </a:lnTo>
                <a:lnTo>
                  <a:pt x="38480" y="1400"/>
                </a:lnTo>
                <a:lnTo>
                  <a:pt x="1400" y="1400"/>
                </a:lnTo>
                <a:close/>
              </a:path>
              <a:path fill="darken" w="39880" h="21600">
                <a:moveTo>
                  <a:pt x="39880" y="0"/>
                </a:moveTo>
                <a:lnTo>
                  <a:pt x="39880" y="21600"/>
                </a:lnTo>
                <a:lnTo>
                  <a:pt x="38480" y="20200"/>
                </a:lnTo>
                <a:lnTo>
                  <a:pt x="38480" y="1400"/>
                </a:lnTo>
                <a:close/>
              </a:path>
              <a:path fill="darkenLess" w="39880" h="21600">
                <a:moveTo>
                  <a:pt x="398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480" y="20200"/>
                </a:lnTo>
                <a:close/>
              </a:path>
              <a:path fill="lighten" w="398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lick here to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nswer this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questio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Now it</a:t>
            </a:r>
            <a:r>
              <a:rPr b="0" lang="ja-JP" sz="3600" spc="-1" strike="noStrike">
                <a:solidFill>
                  <a:srgbClr val="000000"/>
                </a:solidFill>
                <a:latin typeface="Comic Sans MS"/>
              </a:rPr>
              <a:t>’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 time to talk about the parts of your library!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295280" y="2361960"/>
            <a:ext cx="73152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library in your school is arranged in four sections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verybody (Picture Books)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ction (Chapter Books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n-fiction (Information Books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iograph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0" name="AutoShape 4">
            <a:hlinkClick r:id="" action="ppaction://hlinkshowjump?jump=nextslide"/>
          </p:cNvPr>
          <p:cNvSpPr/>
          <p:nvPr/>
        </p:nvSpPr>
        <p:spPr>
          <a:xfrm>
            <a:off x="3733920" y="5715000"/>
            <a:ext cx="1805040" cy="1143000"/>
          </a:xfrm>
          <a:custGeom>
            <a:avLst/>
            <a:gdLst>
              <a:gd name="textAreaLeft" fmla="*/ 73800 w 1805040"/>
              <a:gd name="textAreaRight" fmla="*/ 1731240 w 18050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107" h="21600">
                <a:moveTo>
                  <a:pt x="0" y="0"/>
                </a:moveTo>
                <a:lnTo>
                  <a:pt x="34107" y="0"/>
                </a:lnTo>
                <a:lnTo>
                  <a:pt x="34107" y="21600"/>
                </a:lnTo>
                <a:lnTo>
                  <a:pt x="0" y="21600"/>
                </a:lnTo>
                <a:close/>
              </a:path>
              <a:path fill="lightenLess" w="34107" h="21600">
                <a:moveTo>
                  <a:pt x="0" y="0"/>
                </a:moveTo>
                <a:lnTo>
                  <a:pt x="34107" y="0"/>
                </a:lnTo>
                <a:lnTo>
                  <a:pt x="32707" y="1400"/>
                </a:lnTo>
                <a:lnTo>
                  <a:pt x="1400" y="1400"/>
                </a:lnTo>
                <a:close/>
              </a:path>
              <a:path fill="darken" w="34107" h="21600">
                <a:moveTo>
                  <a:pt x="34107" y="0"/>
                </a:moveTo>
                <a:lnTo>
                  <a:pt x="34107" y="21600"/>
                </a:lnTo>
                <a:lnTo>
                  <a:pt x="32707" y="20200"/>
                </a:lnTo>
                <a:lnTo>
                  <a:pt x="32707" y="1400"/>
                </a:lnTo>
                <a:close/>
              </a:path>
              <a:path fill="darkenLess" w="34107" h="21600">
                <a:moveTo>
                  <a:pt x="341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707" y="20200"/>
                </a:lnTo>
                <a:close/>
              </a:path>
              <a:path fill="lighten" w="341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107" h="21600">
                <a:moveTo>
                  <a:pt x="10047" y="3794"/>
                </a:moveTo>
                <a:lnTo>
                  <a:pt x="24060" y="10800"/>
                </a:lnTo>
                <a:lnTo>
                  <a:pt x="10047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icture Book Sec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7720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first section is called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Picture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ooks.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93" name="Picture 9" descr="0761315357"/>
          <p:cNvPicPr/>
          <p:nvPr/>
        </p:nvPicPr>
        <p:blipFill>
          <a:blip r:embed="rId1"/>
          <a:stretch/>
        </p:blipFill>
        <p:spPr>
          <a:xfrm>
            <a:off x="5410080" y="2514600"/>
            <a:ext cx="2362320" cy="2362320"/>
          </a:xfrm>
          <a:prstGeom prst="rect">
            <a:avLst/>
          </a:prstGeom>
          <a:ln w="0">
            <a:noFill/>
          </a:ln>
        </p:spPr>
      </p:pic>
      <p:sp>
        <p:nvSpPr>
          <p:cNvPr id="394" name="AutoShape 10">
            <a:hlinkClick r:id="" action="ppaction://hlinkshowjump?jump=nextslide"/>
          </p:cNvPr>
          <p:cNvSpPr/>
          <p:nvPr/>
        </p:nvSpPr>
        <p:spPr>
          <a:xfrm>
            <a:off x="3657600" y="5791320"/>
            <a:ext cx="1981080" cy="1042920"/>
          </a:xfrm>
          <a:custGeom>
            <a:avLst/>
            <a:gdLst>
              <a:gd name="textAreaLeft" fmla="*/ 67320 w 1981080"/>
              <a:gd name="textAreaRight" fmla="*/ 1913760 w 19810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41024" h="21600">
                <a:moveTo>
                  <a:pt x="0" y="0"/>
                </a:moveTo>
                <a:lnTo>
                  <a:pt x="41024" y="0"/>
                </a:lnTo>
                <a:lnTo>
                  <a:pt x="41024" y="21600"/>
                </a:lnTo>
                <a:lnTo>
                  <a:pt x="0" y="21600"/>
                </a:lnTo>
                <a:close/>
              </a:path>
              <a:path fill="lightenLess" w="41024" h="21600">
                <a:moveTo>
                  <a:pt x="0" y="0"/>
                </a:moveTo>
                <a:lnTo>
                  <a:pt x="41024" y="0"/>
                </a:lnTo>
                <a:lnTo>
                  <a:pt x="39624" y="1400"/>
                </a:lnTo>
                <a:lnTo>
                  <a:pt x="1400" y="1400"/>
                </a:lnTo>
                <a:close/>
              </a:path>
              <a:path fill="darken" w="41024" h="21600">
                <a:moveTo>
                  <a:pt x="41024" y="0"/>
                </a:moveTo>
                <a:lnTo>
                  <a:pt x="41024" y="21600"/>
                </a:lnTo>
                <a:lnTo>
                  <a:pt x="39624" y="20200"/>
                </a:lnTo>
                <a:lnTo>
                  <a:pt x="39624" y="1400"/>
                </a:lnTo>
                <a:close/>
              </a:path>
              <a:path fill="darkenLess" w="41024" h="21600">
                <a:moveTo>
                  <a:pt x="410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624" y="20200"/>
                </a:lnTo>
                <a:close/>
              </a:path>
              <a:path fill="lighten" w="410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024" h="21600">
                <a:moveTo>
                  <a:pt x="13505" y="3794"/>
                </a:moveTo>
                <a:lnTo>
                  <a:pt x="27518" y="10800"/>
                </a:lnTo>
                <a:lnTo>
                  <a:pt x="13505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440" y="-533880"/>
            <a:ext cx="6870600" cy="1752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icture Book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09120" y="1066320"/>
            <a:ext cx="76964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icture books use illustrations (pictures) to tell lots of the story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illustrations in picture books sometimes tell different parts of the story than the words do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llustrations are very, very important in picture books.  Sometimes they are even more important than the words!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icture books are </a:t>
            </a:r>
            <a:r>
              <a:rPr b="0" lang="ja-JP" sz="2800" spc="-1" strike="noStrike">
                <a:solidFill>
                  <a:srgbClr val="000000"/>
                </a:solidFill>
                <a:latin typeface="Comic Sans MS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de-up</a:t>
            </a:r>
            <a:r>
              <a:rPr b="0" lang="ja-JP" sz="2800" spc="-1" strike="noStrike">
                <a:solidFill>
                  <a:srgbClr val="000000"/>
                </a:solidFill>
                <a:latin typeface="Comic Sans MS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stories from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the authors</a:t>
            </a:r>
            <a:r>
              <a:rPr b="0" lang="ja-JP" sz="2800" spc="-1" strike="noStrike">
                <a:solidFill>
                  <a:srgbClr val="000000"/>
                </a:solidFill>
                <a:latin typeface="Comic Sans MS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magination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7" name="AutoShape 4">
            <a:hlinkClick r:id="" action="ppaction://hlinkshowjump?jump=nextslide"/>
          </p:cNvPr>
          <p:cNvSpPr/>
          <p:nvPr/>
        </p:nvSpPr>
        <p:spPr>
          <a:xfrm>
            <a:off x="3886200" y="5867280"/>
            <a:ext cx="1576440" cy="1043280"/>
          </a:xfrm>
          <a:custGeom>
            <a:avLst/>
            <a:gdLst>
              <a:gd name="textAreaLeft" fmla="*/ 67320 w 1576440"/>
              <a:gd name="textAreaRight" fmla="*/ 1509120 w 157644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32635" h="21600">
                <a:moveTo>
                  <a:pt x="0" y="0"/>
                </a:moveTo>
                <a:lnTo>
                  <a:pt x="32635" y="0"/>
                </a:lnTo>
                <a:lnTo>
                  <a:pt x="32635" y="21600"/>
                </a:lnTo>
                <a:lnTo>
                  <a:pt x="0" y="21600"/>
                </a:lnTo>
                <a:close/>
              </a:path>
              <a:path fill="lightenLess" w="32635" h="21600">
                <a:moveTo>
                  <a:pt x="0" y="0"/>
                </a:moveTo>
                <a:lnTo>
                  <a:pt x="32635" y="0"/>
                </a:lnTo>
                <a:lnTo>
                  <a:pt x="31235" y="1400"/>
                </a:lnTo>
                <a:lnTo>
                  <a:pt x="1400" y="1400"/>
                </a:lnTo>
                <a:close/>
              </a:path>
              <a:path fill="darken" w="32635" h="21600">
                <a:moveTo>
                  <a:pt x="32635" y="0"/>
                </a:moveTo>
                <a:lnTo>
                  <a:pt x="32635" y="21600"/>
                </a:lnTo>
                <a:lnTo>
                  <a:pt x="31235" y="20200"/>
                </a:lnTo>
                <a:lnTo>
                  <a:pt x="31235" y="1400"/>
                </a:lnTo>
                <a:close/>
              </a:path>
              <a:path fill="darkenLess" w="32635" h="21600">
                <a:moveTo>
                  <a:pt x="326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235" y="20200"/>
                </a:lnTo>
                <a:close/>
              </a:path>
              <a:path fill="lighten" w="326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635" h="21600">
                <a:moveTo>
                  <a:pt x="9311" y="3794"/>
                </a:moveTo>
                <a:lnTo>
                  <a:pt x="23324" y="10800"/>
                </a:lnTo>
                <a:lnTo>
                  <a:pt x="9311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icture book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is is a made-up story with lots of pictures.  The pictures are a very important part of the story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00" name="Picture 9" descr="0316110167-resized200"/>
          <p:cNvPicPr/>
          <p:nvPr/>
        </p:nvPicPr>
        <p:blipFill>
          <a:blip r:embed="rId1"/>
          <a:stretch/>
        </p:blipFill>
        <p:spPr>
          <a:xfrm>
            <a:off x="4876920" y="2286000"/>
            <a:ext cx="2762280" cy="2971800"/>
          </a:xfrm>
          <a:prstGeom prst="rect">
            <a:avLst/>
          </a:prstGeom>
          <a:ln w="0">
            <a:noFill/>
          </a:ln>
        </p:spPr>
      </p:pic>
      <p:sp>
        <p:nvSpPr>
          <p:cNvPr id="401" name="AutoShape 10">
            <a:hlinkClick r:id="" action="ppaction://hlinkshowjump?jump=nextslide"/>
          </p:cNvPr>
          <p:cNvSpPr/>
          <p:nvPr/>
        </p:nvSpPr>
        <p:spPr>
          <a:xfrm>
            <a:off x="358128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6" h="21600">
                <a:moveTo>
                  <a:pt x="10271" y="3794"/>
                </a:moveTo>
                <a:lnTo>
                  <a:pt x="24284" y="10800"/>
                </a:lnTo>
                <a:lnTo>
                  <a:pt x="10271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arts of a book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2388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ach book in the library has many parts.   You will learn five parts and words today: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pine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v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utho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llustrator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AutoShape 10">
            <a:hlinkClick r:id="" action="ppaction://hlinkshowjump?jump=nextslide"/>
          </p:cNvPr>
          <p:cNvSpPr/>
          <p:nvPr/>
        </p:nvSpPr>
        <p:spPr>
          <a:xfrm>
            <a:off x="4038480" y="5715000"/>
            <a:ext cx="1295640" cy="762120"/>
          </a:xfrm>
          <a:custGeom>
            <a:avLst/>
            <a:gdLst>
              <a:gd name="textAreaLeft" fmla="*/ 49320 w 1295640"/>
              <a:gd name="textAreaRight" fmla="*/ 1246320 w 12956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6714" h="21600">
                <a:moveTo>
                  <a:pt x="0" y="0"/>
                </a:moveTo>
                <a:lnTo>
                  <a:pt x="36714" y="0"/>
                </a:lnTo>
                <a:lnTo>
                  <a:pt x="36714" y="21600"/>
                </a:lnTo>
                <a:lnTo>
                  <a:pt x="0" y="21600"/>
                </a:lnTo>
                <a:close/>
              </a:path>
              <a:path fill="lightenLess" w="36714" h="21600">
                <a:moveTo>
                  <a:pt x="0" y="0"/>
                </a:moveTo>
                <a:lnTo>
                  <a:pt x="36714" y="0"/>
                </a:lnTo>
                <a:lnTo>
                  <a:pt x="35314" y="1400"/>
                </a:lnTo>
                <a:lnTo>
                  <a:pt x="1400" y="1400"/>
                </a:lnTo>
                <a:close/>
              </a:path>
              <a:path fill="darken" w="36714" h="21600">
                <a:moveTo>
                  <a:pt x="36714" y="0"/>
                </a:moveTo>
                <a:lnTo>
                  <a:pt x="36714" y="21600"/>
                </a:lnTo>
                <a:lnTo>
                  <a:pt x="35314" y="20200"/>
                </a:lnTo>
                <a:lnTo>
                  <a:pt x="35314" y="1400"/>
                </a:lnTo>
                <a:close/>
              </a:path>
              <a:path fill="darkenLess" w="36714" h="21600">
                <a:moveTo>
                  <a:pt x="367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314" y="20200"/>
                </a:lnTo>
                <a:close/>
              </a:path>
              <a:path fill="lighten" w="367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714" h="21600">
                <a:moveTo>
                  <a:pt x="11350" y="3794"/>
                </a:moveTo>
                <a:lnTo>
                  <a:pt x="25363" y="10800"/>
                </a:lnTo>
                <a:lnTo>
                  <a:pt x="11350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15242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>
                <a:alpha val="75000"/>
              </a:srgbClr>
            </a:outerShdw>
          </a:effectLst>
        </p:spPr>
        <p:txBody>
          <a:bodyPr anchor="b">
            <a:noAutofit/>
          </a:bodyPr>
          <a:p>
            <a:pPr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cc0066"/>
                </a:solidFill>
                <a:latin typeface="Comic Sans MS"/>
              </a:rPr>
              <a:t>Be sure to choose the BEST answer!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   ~ </a:t>
            </a:r>
            <a:r>
              <a:rPr b="1" i="1" lang="en-US" sz="4000" spc="-1" strike="noStrike">
                <a:solidFill>
                  <a:srgbClr val="000000"/>
                </a:solidFill>
                <a:latin typeface="Comic Sans MS"/>
              </a:rPr>
              <a:t>What is a picture book?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Comic Sans MS"/>
              </a:rPr>
              <a:t>A picture book has very few illustrations in i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Comic Sans MS"/>
              </a:rPr>
              <a:t>A picture book tells lots of the story with pictures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66"/>
                </a:solidFill>
                <a:latin typeface="Comic Sans MS"/>
              </a:rPr>
              <a:t>Sometimes the illustrations aren</a:t>
            </a:r>
            <a:r>
              <a:rPr b="0" lang="ja-JP" sz="3200" spc="-1" strike="noStrike">
                <a:solidFill>
                  <a:srgbClr val="00cc66"/>
                </a:solidFill>
                <a:latin typeface="Comic Sans MS"/>
              </a:rPr>
              <a:t>’</a:t>
            </a:r>
            <a:r>
              <a:rPr b="0" lang="en-US" sz="3200" spc="-1" strike="noStrike">
                <a:solidFill>
                  <a:srgbClr val="00cc66"/>
                </a:solidFill>
                <a:latin typeface="Comic Sans MS"/>
              </a:rPr>
              <a:t>t  important in a story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All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f the answers are right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4" name="AutoShape 5">
            <a:hlinkClick r:id="rId1" action="ppaction://hlinksldjump"/>
          </p:cNvPr>
          <p:cNvSpPr/>
          <p:nvPr/>
        </p:nvSpPr>
        <p:spPr>
          <a:xfrm>
            <a:off x="1219320" y="1905120"/>
            <a:ext cx="5715000" cy="457200"/>
          </a:xfrm>
          <a:custGeom>
            <a:avLst/>
            <a:gdLst>
              <a:gd name="textAreaLeft" fmla="*/ 29520 w 5715000"/>
              <a:gd name="textAreaRight" fmla="*/ 5685480 w 57150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69805" h="21600">
                <a:moveTo>
                  <a:pt x="0" y="0"/>
                </a:moveTo>
                <a:lnTo>
                  <a:pt x="269805" y="0"/>
                </a:lnTo>
                <a:lnTo>
                  <a:pt x="269805" y="21600"/>
                </a:lnTo>
                <a:lnTo>
                  <a:pt x="0" y="21600"/>
                </a:lnTo>
                <a:close/>
              </a:path>
              <a:path fill="lightenLess" w="269805" h="21600">
                <a:moveTo>
                  <a:pt x="0" y="0"/>
                </a:moveTo>
                <a:lnTo>
                  <a:pt x="269805" y="0"/>
                </a:lnTo>
                <a:lnTo>
                  <a:pt x="268405" y="1400"/>
                </a:lnTo>
                <a:lnTo>
                  <a:pt x="1400" y="1400"/>
                </a:lnTo>
                <a:close/>
              </a:path>
              <a:path fill="darken" w="269805" h="21600">
                <a:moveTo>
                  <a:pt x="269805" y="0"/>
                </a:moveTo>
                <a:lnTo>
                  <a:pt x="269805" y="21600"/>
                </a:lnTo>
                <a:lnTo>
                  <a:pt x="268405" y="20200"/>
                </a:lnTo>
                <a:lnTo>
                  <a:pt x="268405" y="1400"/>
                </a:lnTo>
                <a:close/>
              </a:path>
              <a:path fill="darkenLess" w="269805" h="21600">
                <a:moveTo>
                  <a:pt x="2698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8405" y="20200"/>
                </a:lnTo>
                <a:close/>
              </a:path>
              <a:path fill="lighten" w="2698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5" name="AutoShape 6">
            <a:hlinkClick r:id="rId2" action="ppaction://hlinksldjump"/>
          </p:cNvPr>
          <p:cNvSpPr/>
          <p:nvPr/>
        </p:nvSpPr>
        <p:spPr>
          <a:xfrm>
            <a:off x="1219320" y="2819520"/>
            <a:ext cx="5638680" cy="914400"/>
          </a:xfrm>
          <a:custGeom>
            <a:avLst/>
            <a:gdLst>
              <a:gd name="textAreaLeft" fmla="*/ 59040 w 5638680"/>
              <a:gd name="textAreaRight" fmla="*/ 5579640 w 563868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133153" h="21600">
                <a:moveTo>
                  <a:pt x="0" y="0"/>
                </a:moveTo>
                <a:lnTo>
                  <a:pt x="133153" y="0"/>
                </a:lnTo>
                <a:lnTo>
                  <a:pt x="133153" y="21600"/>
                </a:lnTo>
                <a:lnTo>
                  <a:pt x="0" y="21600"/>
                </a:lnTo>
                <a:close/>
              </a:path>
              <a:path fill="lightenLess" w="133153" h="21600">
                <a:moveTo>
                  <a:pt x="0" y="0"/>
                </a:moveTo>
                <a:lnTo>
                  <a:pt x="133153" y="0"/>
                </a:lnTo>
                <a:lnTo>
                  <a:pt x="131753" y="1400"/>
                </a:lnTo>
                <a:lnTo>
                  <a:pt x="1400" y="1400"/>
                </a:lnTo>
                <a:close/>
              </a:path>
              <a:path fill="darken" w="133153" h="21600">
                <a:moveTo>
                  <a:pt x="133153" y="0"/>
                </a:moveTo>
                <a:lnTo>
                  <a:pt x="133153" y="21600"/>
                </a:lnTo>
                <a:lnTo>
                  <a:pt x="131753" y="20200"/>
                </a:lnTo>
                <a:lnTo>
                  <a:pt x="131753" y="1400"/>
                </a:lnTo>
                <a:close/>
              </a:path>
              <a:path fill="darkenLess" w="133153" h="21600">
                <a:moveTo>
                  <a:pt x="1331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1753" y="20200"/>
                </a:lnTo>
                <a:close/>
              </a:path>
              <a:path fill="lighten" w="1331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6" name="AutoShape 7">
            <a:hlinkClick r:id="" action="ppaction://hlinkshowjump?jump=nextslide"/>
          </p:cNvPr>
          <p:cNvSpPr/>
          <p:nvPr/>
        </p:nvSpPr>
        <p:spPr>
          <a:xfrm>
            <a:off x="1143000" y="3809880"/>
            <a:ext cx="5715000" cy="914400"/>
          </a:xfrm>
          <a:custGeom>
            <a:avLst/>
            <a:gdLst>
              <a:gd name="textAreaLeft" fmla="*/ 59040 w 5715000"/>
              <a:gd name="textAreaRight" fmla="*/ 5655960 w 57150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134955" h="21600">
                <a:moveTo>
                  <a:pt x="0" y="0"/>
                </a:moveTo>
                <a:lnTo>
                  <a:pt x="134955" y="0"/>
                </a:lnTo>
                <a:lnTo>
                  <a:pt x="134955" y="21600"/>
                </a:lnTo>
                <a:lnTo>
                  <a:pt x="0" y="21600"/>
                </a:lnTo>
                <a:close/>
              </a:path>
              <a:path fill="lightenLess" w="134955" h="21600">
                <a:moveTo>
                  <a:pt x="0" y="0"/>
                </a:moveTo>
                <a:lnTo>
                  <a:pt x="134955" y="0"/>
                </a:lnTo>
                <a:lnTo>
                  <a:pt x="133555" y="1400"/>
                </a:lnTo>
                <a:lnTo>
                  <a:pt x="1400" y="1400"/>
                </a:lnTo>
                <a:close/>
              </a:path>
              <a:path fill="darken" w="134955" h="21600">
                <a:moveTo>
                  <a:pt x="134955" y="0"/>
                </a:moveTo>
                <a:lnTo>
                  <a:pt x="134955" y="21600"/>
                </a:lnTo>
                <a:lnTo>
                  <a:pt x="133555" y="20200"/>
                </a:lnTo>
                <a:lnTo>
                  <a:pt x="133555" y="1400"/>
                </a:lnTo>
                <a:close/>
              </a:path>
              <a:path fill="darkenLess" w="134955" h="21600">
                <a:moveTo>
                  <a:pt x="134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3555" y="20200"/>
                </a:lnTo>
                <a:close/>
              </a:path>
              <a:path fill="lighten" w="134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7" name="AutoShape 8">
            <a:hlinkClick r:id="rId3" action="ppaction://hlinksldjump"/>
          </p:cNvPr>
          <p:cNvSpPr/>
          <p:nvPr/>
        </p:nvSpPr>
        <p:spPr>
          <a:xfrm>
            <a:off x="1219320" y="4419720"/>
            <a:ext cx="5486400" cy="304560"/>
          </a:xfrm>
          <a:custGeom>
            <a:avLst/>
            <a:gdLst>
              <a:gd name="textAreaLeft" fmla="*/ 19440 w 5486400"/>
              <a:gd name="textAreaRight" fmla="*/ 5466960 w 548640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388672" h="21600">
                <a:moveTo>
                  <a:pt x="0" y="0"/>
                </a:moveTo>
                <a:lnTo>
                  <a:pt x="388672" y="0"/>
                </a:lnTo>
                <a:lnTo>
                  <a:pt x="388672" y="21600"/>
                </a:lnTo>
                <a:lnTo>
                  <a:pt x="0" y="21600"/>
                </a:lnTo>
                <a:close/>
              </a:path>
              <a:path fill="lightenLess" w="388672" h="21600">
                <a:moveTo>
                  <a:pt x="0" y="0"/>
                </a:moveTo>
                <a:lnTo>
                  <a:pt x="388672" y="0"/>
                </a:lnTo>
                <a:lnTo>
                  <a:pt x="387273" y="1400"/>
                </a:lnTo>
                <a:lnTo>
                  <a:pt x="1400" y="1400"/>
                </a:lnTo>
                <a:close/>
              </a:path>
              <a:path fill="darken" w="388672" h="21600">
                <a:moveTo>
                  <a:pt x="388672" y="0"/>
                </a:moveTo>
                <a:lnTo>
                  <a:pt x="388672" y="21600"/>
                </a:lnTo>
                <a:lnTo>
                  <a:pt x="387273" y="20200"/>
                </a:lnTo>
                <a:lnTo>
                  <a:pt x="387273" y="1400"/>
                </a:lnTo>
                <a:close/>
              </a:path>
              <a:path fill="darkenLess" w="388672" h="21600">
                <a:moveTo>
                  <a:pt x="3886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7273" y="20200"/>
                </a:lnTo>
                <a:close/>
              </a:path>
              <a:path fill="lighten" w="3886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8" name="AutoShape 9">
            <a:hlinkClick r:id="rId4" action="ppaction://hlinksldjump"/>
          </p:cNvPr>
          <p:cNvSpPr/>
          <p:nvPr/>
        </p:nvSpPr>
        <p:spPr>
          <a:xfrm>
            <a:off x="1143000" y="4952880"/>
            <a:ext cx="5562720" cy="457200"/>
          </a:xfrm>
          <a:custGeom>
            <a:avLst/>
            <a:gdLst>
              <a:gd name="textAreaLeft" fmla="*/ 29520 w 5562720"/>
              <a:gd name="textAreaRight" fmla="*/ 5533200 w 55627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62616" h="21600">
                <a:moveTo>
                  <a:pt x="0" y="0"/>
                </a:moveTo>
                <a:lnTo>
                  <a:pt x="262616" y="0"/>
                </a:lnTo>
                <a:lnTo>
                  <a:pt x="262616" y="21600"/>
                </a:lnTo>
                <a:lnTo>
                  <a:pt x="0" y="21600"/>
                </a:lnTo>
                <a:close/>
              </a:path>
              <a:path fill="lightenLess" w="262616" h="21600">
                <a:moveTo>
                  <a:pt x="0" y="0"/>
                </a:moveTo>
                <a:lnTo>
                  <a:pt x="262616" y="0"/>
                </a:lnTo>
                <a:lnTo>
                  <a:pt x="261216" y="1400"/>
                </a:lnTo>
                <a:lnTo>
                  <a:pt x="1400" y="1400"/>
                </a:lnTo>
                <a:close/>
              </a:path>
              <a:path fill="darken" w="262616" h="21600">
                <a:moveTo>
                  <a:pt x="262616" y="0"/>
                </a:moveTo>
                <a:lnTo>
                  <a:pt x="262616" y="21600"/>
                </a:lnTo>
                <a:lnTo>
                  <a:pt x="261216" y="20200"/>
                </a:lnTo>
                <a:lnTo>
                  <a:pt x="261216" y="1400"/>
                </a:lnTo>
                <a:close/>
              </a:path>
              <a:path fill="darkenLess" w="262616" h="21600">
                <a:moveTo>
                  <a:pt x="2626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1216" y="20200"/>
                </a:lnTo>
                <a:close/>
              </a:path>
              <a:path fill="lighten" w="2626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9" name="Text Box 10"/>
          <p:cNvSpPr/>
          <p:nvPr/>
        </p:nvSpPr>
        <p:spPr>
          <a:xfrm>
            <a:off x="1905120" y="6019920"/>
            <a:ext cx="49528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b8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66"/>
                </a:solidFill>
                <a:latin typeface="Comic Sans MS"/>
              </a:rPr>
              <a:t>Click the choice that is the BEST answe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68706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lease read this and try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gain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. . 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09120" y="838080"/>
            <a:ext cx="76964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b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200"/>
                </a:solidFill>
                <a:latin typeface="Comic Sans MS"/>
              </a:rPr>
              <a:t>Picture books use illustrations (pictures) to tell lots of the story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Illustrations are very, very important in picture books.  Sometimes they are even more important than the words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Comic Sans MS"/>
              </a:rPr>
              <a:t>Picture books are </a:t>
            </a:r>
            <a:r>
              <a:rPr b="0" lang="ja-JP" sz="3200" spc="-1" strike="noStrike">
                <a:solidFill>
                  <a:srgbClr val="cc0066"/>
                </a:solidFill>
                <a:latin typeface="Comic Sans MS"/>
              </a:rPr>
              <a:t>‘</a:t>
            </a:r>
            <a:r>
              <a:rPr b="0" lang="en-US" sz="3200" spc="-1" strike="noStrike">
                <a:solidFill>
                  <a:srgbClr val="cc0066"/>
                </a:solidFill>
                <a:latin typeface="Comic Sans MS"/>
              </a:rPr>
              <a:t>made-up</a:t>
            </a:r>
            <a:r>
              <a:rPr b="0" lang="ja-JP" sz="3200" spc="-1" strike="noStrike">
                <a:solidFill>
                  <a:srgbClr val="cc0066"/>
                </a:solidFill>
                <a:latin typeface="Comic Sans MS"/>
              </a:rPr>
              <a:t>’</a:t>
            </a:r>
            <a:r>
              <a:rPr b="0" lang="en-US" sz="3200" spc="-1" strike="noStrike">
                <a:solidFill>
                  <a:srgbClr val="cc0066"/>
                </a:solidFill>
                <a:latin typeface="Comic Sans MS"/>
              </a:rPr>
              <a:t> stories from  the authors</a:t>
            </a:r>
            <a:r>
              <a:rPr b="0" lang="ja-JP" sz="3200" spc="-1" strike="noStrike">
                <a:solidFill>
                  <a:srgbClr val="cc0066"/>
                </a:solidFill>
                <a:latin typeface="Comic Sans MS"/>
              </a:rPr>
              <a:t>’</a:t>
            </a:r>
            <a:r>
              <a:rPr b="0" lang="en-US" sz="3200" spc="-1" strike="noStrike">
                <a:solidFill>
                  <a:srgbClr val="cc0066"/>
                </a:solidFill>
                <a:latin typeface="Comic Sans MS"/>
              </a:rPr>
              <a:t> imagination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2" name="AutoShape 5"/>
          <p:cNvSpPr/>
          <p:nvPr/>
        </p:nvSpPr>
        <p:spPr>
          <a:xfrm>
            <a:off x="3276720" y="5815080"/>
            <a:ext cx="2361960" cy="1042920"/>
          </a:xfrm>
          <a:custGeom>
            <a:avLst/>
            <a:gdLst>
              <a:gd name="textAreaLeft" fmla="*/ 67320 w 2361960"/>
              <a:gd name="textAreaRight" fmla="*/ 2294640 w 236196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48909" h="21600">
                <a:moveTo>
                  <a:pt x="0" y="0"/>
                </a:moveTo>
                <a:lnTo>
                  <a:pt x="48909" y="0"/>
                </a:lnTo>
                <a:lnTo>
                  <a:pt x="48909" y="21600"/>
                </a:lnTo>
                <a:lnTo>
                  <a:pt x="0" y="21600"/>
                </a:lnTo>
                <a:close/>
              </a:path>
              <a:path fill="lightenLess" w="48909" h="21600">
                <a:moveTo>
                  <a:pt x="0" y="0"/>
                </a:moveTo>
                <a:lnTo>
                  <a:pt x="48909" y="0"/>
                </a:lnTo>
                <a:lnTo>
                  <a:pt x="47509" y="1400"/>
                </a:lnTo>
                <a:lnTo>
                  <a:pt x="1400" y="1400"/>
                </a:lnTo>
                <a:close/>
              </a:path>
              <a:path fill="darken" w="48909" h="21600">
                <a:moveTo>
                  <a:pt x="48909" y="0"/>
                </a:moveTo>
                <a:lnTo>
                  <a:pt x="48909" y="21600"/>
                </a:lnTo>
                <a:lnTo>
                  <a:pt x="47509" y="20200"/>
                </a:lnTo>
                <a:lnTo>
                  <a:pt x="47509" y="1400"/>
                </a:lnTo>
                <a:close/>
              </a:path>
              <a:path fill="darkenLess" w="48909" h="21600">
                <a:moveTo>
                  <a:pt x="489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509" y="20200"/>
                </a:lnTo>
                <a:close/>
              </a:path>
              <a:path fill="lighten" w="489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lick fo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questio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DB4AD5A5.WAV" descr=""/>
          <p:cNvPicPr/>
          <p:nvPr/>
        </p:nvPicPr>
        <p:blipFill>
          <a:blip r:embed="rId1"/>
          <a:stretch/>
        </p:blipFill>
        <p:spPr>
          <a:xfrm>
            <a:off x="6705720" y="2514600"/>
            <a:ext cx="401400" cy="914400"/>
          </a:xfrm>
          <a:prstGeom prst="rect">
            <a:avLst/>
          </a:prstGeom>
          <a:ln w="0">
            <a:noFill/>
          </a:ln>
        </p:spPr>
      </p:pic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>
                <a:alpha val="75000"/>
              </a:srgbClr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703dff"/>
                </a:solidFill>
                <a:latin typeface="Comic Sans MS"/>
              </a:rPr>
              <a:t>You know it!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ery, Very Good!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16" name="Picture 5" descr="SO00285_[1]"/>
          <p:cNvPicPr/>
          <p:nvPr/>
        </p:nvPicPr>
        <p:blipFill>
          <a:blip r:embed="rId2"/>
          <a:stretch/>
        </p:blipFill>
        <p:spPr>
          <a:xfrm>
            <a:off x="4876920" y="2209680"/>
            <a:ext cx="3276360" cy="3048120"/>
          </a:xfrm>
          <a:prstGeom prst="rect">
            <a:avLst/>
          </a:prstGeom>
          <a:ln w="0">
            <a:noFill/>
          </a:ln>
        </p:spPr>
      </p:pic>
      <p:sp>
        <p:nvSpPr>
          <p:cNvPr id="417" name="AutoShape 7">
            <a:hlinkClick r:id="" action="ppaction://hlinkshowjump?jump=nextslide"/>
          </p:cNvPr>
          <p:cNvSpPr/>
          <p:nvPr/>
        </p:nvSpPr>
        <p:spPr>
          <a:xfrm>
            <a:off x="3886200" y="5562720"/>
            <a:ext cx="1295280" cy="914400"/>
          </a:xfrm>
          <a:custGeom>
            <a:avLst/>
            <a:gdLst>
              <a:gd name="textAreaLeft" fmla="*/ 59040 w 1295280"/>
              <a:gd name="textAreaRight" fmla="*/ 1236240 w 129528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0594" h="21600">
                <a:moveTo>
                  <a:pt x="0" y="0"/>
                </a:moveTo>
                <a:lnTo>
                  <a:pt x="30594" y="0"/>
                </a:lnTo>
                <a:lnTo>
                  <a:pt x="30594" y="21600"/>
                </a:lnTo>
                <a:lnTo>
                  <a:pt x="0" y="21600"/>
                </a:lnTo>
                <a:close/>
              </a:path>
              <a:path fill="lightenLess" w="30594" h="21600">
                <a:moveTo>
                  <a:pt x="0" y="0"/>
                </a:moveTo>
                <a:lnTo>
                  <a:pt x="30594" y="0"/>
                </a:lnTo>
                <a:lnTo>
                  <a:pt x="29194" y="1400"/>
                </a:lnTo>
                <a:lnTo>
                  <a:pt x="1400" y="1400"/>
                </a:lnTo>
                <a:close/>
              </a:path>
              <a:path fill="darken" w="30594" h="21600">
                <a:moveTo>
                  <a:pt x="30594" y="0"/>
                </a:moveTo>
                <a:lnTo>
                  <a:pt x="30594" y="21600"/>
                </a:lnTo>
                <a:lnTo>
                  <a:pt x="29194" y="20200"/>
                </a:lnTo>
                <a:lnTo>
                  <a:pt x="29194" y="1400"/>
                </a:lnTo>
                <a:close/>
              </a:path>
              <a:path fill="darkenLess" w="30594" h="21600">
                <a:moveTo>
                  <a:pt x="305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194" y="20200"/>
                </a:lnTo>
                <a:close/>
              </a:path>
              <a:path fill="lighten" w="305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594" h="21600">
                <a:moveTo>
                  <a:pt x="8290" y="3794"/>
                </a:moveTo>
                <a:lnTo>
                  <a:pt x="22303" y="10800"/>
                </a:lnTo>
                <a:lnTo>
                  <a:pt x="8290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Chapter Book Sec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609800" y="1828800"/>
            <a:ext cx="37717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nother section is called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Chapter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Books.  This section is fiction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20" name="Picture 9" descr="043920352X"/>
          <p:cNvPicPr/>
          <p:nvPr/>
        </p:nvPicPr>
        <p:blipFill>
          <a:blip r:embed="rId1"/>
          <a:stretch/>
        </p:blipFill>
        <p:spPr>
          <a:xfrm>
            <a:off x="1488960" y="2057400"/>
            <a:ext cx="2549520" cy="3200400"/>
          </a:xfrm>
          <a:prstGeom prst="rect">
            <a:avLst/>
          </a:prstGeom>
          <a:ln w="0">
            <a:noFill/>
          </a:ln>
        </p:spPr>
      </p:pic>
      <p:sp>
        <p:nvSpPr>
          <p:cNvPr id="421" name="AutoShape 10">
            <a:hlinkClick r:id="" action="ppaction://hlinkshowjump?jump=nextslide"/>
          </p:cNvPr>
          <p:cNvSpPr/>
          <p:nvPr/>
        </p:nvSpPr>
        <p:spPr>
          <a:xfrm>
            <a:off x="3276720" y="5815080"/>
            <a:ext cx="1500120" cy="1042920"/>
          </a:xfrm>
          <a:custGeom>
            <a:avLst/>
            <a:gdLst>
              <a:gd name="textAreaLeft" fmla="*/ 67320 w 1500120"/>
              <a:gd name="textAreaRight" fmla="*/ 1432800 w 15001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31066" h="21600">
                <a:moveTo>
                  <a:pt x="0" y="0"/>
                </a:moveTo>
                <a:lnTo>
                  <a:pt x="31066" y="0"/>
                </a:lnTo>
                <a:lnTo>
                  <a:pt x="31066" y="21600"/>
                </a:lnTo>
                <a:lnTo>
                  <a:pt x="0" y="21600"/>
                </a:lnTo>
                <a:close/>
              </a:path>
              <a:path fill="lightenLess" w="31066" h="21600">
                <a:moveTo>
                  <a:pt x="0" y="0"/>
                </a:moveTo>
                <a:lnTo>
                  <a:pt x="31066" y="0"/>
                </a:lnTo>
                <a:lnTo>
                  <a:pt x="29666" y="1400"/>
                </a:lnTo>
                <a:lnTo>
                  <a:pt x="1400" y="1400"/>
                </a:lnTo>
                <a:close/>
              </a:path>
              <a:path fill="darken" w="31066" h="21600">
                <a:moveTo>
                  <a:pt x="31066" y="0"/>
                </a:moveTo>
                <a:lnTo>
                  <a:pt x="31066" y="21600"/>
                </a:lnTo>
                <a:lnTo>
                  <a:pt x="29666" y="20200"/>
                </a:lnTo>
                <a:lnTo>
                  <a:pt x="29666" y="1400"/>
                </a:lnTo>
                <a:close/>
              </a:path>
              <a:path fill="darkenLess" w="31066" h="21600">
                <a:moveTo>
                  <a:pt x="310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666" y="20200"/>
                </a:lnTo>
                <a:close/>
              </a:path>
              <a:path fill="lighten" w="310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066" h="21600">
                <a:moveTo>
                  <a:pt x="8526" y="3794"/>
                </a:moveTo>
                <a:lnTo>
                  <a:pt x="22539" y="10800"/>
                </a:lnTo>
                <a:lnTo>
                  <a:pt x="8526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hapter Books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hapter Books usually have more words than picture books, and fewer pictures.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 chapter books, the words are more important for the story than the pictures ar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hapter books usually have more words on each page than picture books do, and the story is long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hapter books are </a:t>
            </a:r>
            <a:r>
              <a:rPr b="0" lang="ja-JP" sz="2800" spc="-1" strike="noStrike">
                <a:solidFill>
                  <a:srgbClr val="000000"/>
                </a:solidFill>
                <a:latin typeface="Comic Sans MS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de-up</a:t>
            </a:r>
            <a:r>
              <a:rPr b="0" lang="ja-JP" sz="2800" spc="-1" strike="noStrike">
                <a:solidFill>
                  <a:srgbClr val="000000"/>
                </a:solidFill>
                <a:latin typeface="Comic Sans MS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stories                         (fiction)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4" name="AutoShape 4">
            <a:hlinkClick r:id="" action="ppaction://hlinkshowjump?jump=nextslide"/>
          </p:cNvPr>
          <p:cNvSpPr/>
          <p:nvPr/>
        </p:nvSpPr>
        <p:spPr>
          <a:xfrm>
            <a:off x="3809880" y="5715000"/>
            <a:ext cx="1752840" cy="762120"/>
          </a:xfrm>
          <a:custGeom>
            <a:avLst/>
            <a:gdLst>
              <a:gd name="textAreaLeft" fmla="*/ 49320 w 1752840"/>
              <a:gd name="textAreaRight" fmla="*/ 1703520 w 17528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49666" h="21600">
                <a:moveTo>
                  <a:pt x="0" y="0"/>
                </a:moveTo>
                <a:lnTo>
                  <a:pt x="49666" y="0"/>
                </a:lnTo>
                <a:lnTo>
                  <a:pt x="49666" y="21600"/>
                </a:lnTo>
                <a:lnTo>
                  <a:pt x="0" y="21600"/>
                </a:lnTo>
                <a:close/>
              </a:path>
              <a:path fill="lightenLess" w="49666" h="21600">
                <a:moveTo>
                  <a:pt x="0" y="0"/>
                </a:moveTo>
                <a:lnTo>
                  <a:pt x="49666" y="0"/>
                </a:lnTo>
                <a:lnTo>
                  <a:pt x="48266" y="1400"/>
                </a:lnTo>
                <a:lnTo>
                  <a:pt x="1400" y="1400"/>
                </a:lnTo>
                <a:close/>
              </a:path>
              <a:path fill="darken" w="49666" h="21600">
                <a:moveTo>
                  <a:pt x="49666" y="0"/>
                </a:moveTo>
                <a:lnTo>
                  <a:pt x="49666" y="21600"/>
                </a:lnTo>
                <a:lnTo>
                  <a:pt x="48266" y="20200"/>
                </a:lnTo>
                <a:lnTo>
                  <a:pt x="48266" y="1400"/>
                </a:lnTo>
                <a:close/>
              </a:path>
              <a:path fill="darkenLess" w="49666" h="21600">
                <a:moveTo>
                  <a:pt x="496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266" y="20200"/>
                </a:lnTo>
                <a:close/>
              </a:path>
              <a:path fill="lighten" w="496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9666" h="21600">
                <a:moveTo>
                  <a:pt x="17826" y="3794"/>
                </a:moveTo>
                <a:lnTo>
                  <a:pt x="31839" y="10800"/>
                </a:lnTo>
                <a:lnTo>
                  <a:pt x="17826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is a chapter book?</a:t>
            </a:r>
            <a:br>
              <a:rPr sz="44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ick the best answer by clicking on it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hapter books are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real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tories, not </a:t>
            </a:r>
            <a:r>
              <a:rPr b="0" lang="ja-JP" sz="2400" spc="-1" strike="noStrike">
                <a:solidFill>
                  <a:srgbClr val="000000"/>
                </a:solidFill>
                <a:latin typeface="Comic Sans MS"/>
              </a:rPr>
              <a:t>‘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de-up</a:t>
            </a:r>
            <a:r>
              <a:rPr b="0" lang="ja-JP" sz="2400" spc="-1" strike="noStrike">
                <a:solidFill>
                  <a:srgbClr val="000000"/>
                </a:solidFill>
                <a:latin typeface="Comic Sans MS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torie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hapter books usually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don</a:t>
            </a:r>
            <a:r>
              <a:rPr b="1" lang="ja-JP" sz="2400" spc="-1" strike="noStrike">
                <a:solidFill>
                  <a:srgbClr val="000000"/>
                </a:solidFill>
                <a:latin typeface="Comic Sans MS"/>
              </a:rPr>
              <a:t>’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have more words than picture books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hapter books have mostly word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hapter books are never hardback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7" name="AutoShape 5"/>
          <p:cNvSpPr/>
          <p:nvPr/>
        </p:nvSpPr>
        <p:spPr>
          <a:xfrm>
            <a:off x="914400" y="1905120"/>
            <a:ext cx="5562720" cy="609480"/>
          </a:xfrm>
          <a:custGeom>
            <a:avLst/>
            <a:gdLst>
              <a:gd name="textAreaLeft" fmla="*/ 39240 w 5562720"/>
              <a:gd name="textAreaRight" fmla="*/ 5523480 w 5562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197039" h="21600">
                <a:moveTo>
                  <a:pt x="0" y="0"/>
                </a:moveTo>
                <a:lnTo>
                  <a:pt x="197039" y="0"/>
                </a:lnTo>
                <a:lnTo>
                  <a:pt x="197039" y="21600"/>
                </a:lnTo>
                <a:lnTo>
                  <a:pt x="0" y="21600"/>
                </a:lnTo>
                <a:close/>
              </a:path>
              <a:path fill="lightenLess" w="197039" h="21600">
                <a:moveTo>
                  <a:pt x="0" y="0"/>
                </a:moveTo>
                <a:lnTo>
                  <a:pt x="197039" y="0"/>
                </a:lnTo>
                <a:lnTo>
                  <a:pt x="195639" y="1400"/>
                </a:lnTo>
                <a:lnTo>
                  <a:pt x="1400" y="1400"/>
                </a:lnTo>
                <a:close/>
              </a:path>
              <a:path fill="darken" w="197039" h="21600">
                <a:moveTo>
                  <a:pt x="197039" y="0"/>
                </a:moveTo>
                <a:lnTo>
                  <a:pt x="197039" y="21600"/>
                </a:lnTo>
                <a:lnTo>
                  <a:pt x="195639" y="20200"/>
                </a:lnTo>
                <a:lnTo>
                  <a:pt x="195639" y="1400"/>
                </a:lnTo>
                <a:close/>
              </a:path>
              <a:path fill="darkenLess" w="197039" h="21600">
                <a:moveTo>
                  <a:pt x="1970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95639" y="20200"/>
                </a:lnTo>
                <a:close/>
              </a:path>
              <a:path fill="lighten" w="1970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8" name="AutoShape 8"/>
          <p:cNvSpPr/>
          <p:nvPr/>
        </p:nvSpPr>
        <p:spPr>
          <a:xfrm>
            <a:off x="1143000" y="4267080"/>
            <a:ext cx="4724280" cy="533520"/>
          </a:xfrm>
          <a:custGeom>
            <a:avLst/>
            <a:gdLst>
              <a:gd name="textAreaLeft" fmla="*/ 34560 w 4724280"/>
              <a:gd name="textAreaRight" fmla="*/ 4689720 w 47242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191152" h="21600">
                <a:moveTo>
                  <a:pt x="0" y="0"/>
                </a:moveTo>
                <a:lnTo>
                  <a:pt x="191152" y="0"/>
                </a:lnTo>
                <a:lnTo>
                  <a:pt x="191152" y="21600"/>
                </a:lnTo>
                <a:lnTo>
                  <a:pt x="0" y="21600"/>
                </a:lnTo>
                <a:close/>
              </a:path>
              <a:path fill="lightenLess" w="191152" h="21600">
                <a:moveTo>
                  <a:pt x="0" y="0"/>
                </a:moveTo>
                <a:lnTo>
                  <a:pt x="191152" y="0"/>
                </a:lnTo>
                <a:lnTo>
                  <a:pt x="189752" y="1400"/>
                </a:lnTo>
                <a:lnTo>
                  <a:pt x="1400" y="1400"/>
                </a:lnTo>
                <a:close/>
              </a:path>
              <a:path fill="darken" w="191152" h="21600">
                <a:moveTo>
                  <a:pt x="191152" y="0"/>
                </a:moveTo>
                <a:lnTo>
                  <a:pt x="191152" y="21600"/>
                </a:lnTo>
                <a:lnTo>
                  <a:pt x="189752" y="20200"/>
                </a:lnTo>
                <a:lnTo>
                  <a:pt x="189752" y="1400"/>
                </a:lnTo>
                <a:close/>
              </a:path>
              <a:path fill="darkenLess" w="191152" h="21600">
                <a:moveTo>
                  <a:pt x="1911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89752" y="20200"/>
                </a:lnTo>
                <a:close/>
              </a:path>
              <a:path fill="lighten" w="1911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9" name="AutoShape 9"/>
          <p:cNvSpPr/>
          <p:nvPr/>
        </p:nvSpPr>
        <p:spPr>
          <a:xfrm>
            <a:off x="1066680" y="5105520"/>
            <a:ext cx="4876920" cy="457200"/>
          </a:xfrm>
          <a:custGeom>
            <a:avLst/>
            <a:gdLst>
              <a:gd name="textAreaLeft" fmla="*/ 29520 w 4876920"/>
              <a:gd name="textAreaRight" fmla="*/ 4847400 w 48769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30241" h="21600">
                <a:moveTo>
                  <a:pt x="0" y="0"/>
                </a:moveTo>
                <a:lnTo>
                  <a:pt x="230241" y="0"/>
                </a:lnTo>
                <a:lnTo>
                  <a:pt x="230241" y="21600"/>
                </a:lnTo>
                <a:lnTo>
                  <a:pt x="0" y="21600"/>
                </a:lnTo>
                <a:close/>
              </a:path>
              <a:path fill="lightenLess" w="230241" h="21600">
                <a:moveTo>
                  <a:pt x="0" y="0"/>
                </a:moveTo>
                <a:lnTo>
                  <a:pt x="230241" y="0"/>
                </a:lnTo>
                <a:lnTo>
                  <a:pt x="228841" y="1400"/>
                </a:lnTo>
                <a:lnTo>
                  <a:pt x="1400" y="1400"/>
                </a:lnTo>
                <a:close/>
              </a:path>
              <a:path fill="darken" w="230241" h="21600">
                <a:moveTo>
                  <a:pt x="230241" y="0"/>
                </a:moveTo>
                <a:lnTo>
                  <a:pt x="230241" y="21600"/>
                </a:lnTo>
                <a:lnTo>
                  <a:pt x="228841" y="20200"/>
                </a:lnTo>
                <a:lnTo>
                  <a:pt x="228841" y="1400"/>
                </a:lnTo>
                <a:close/>
              </a:path>
              <a:path fill="darkenLess" w="230241" h="21600">
                <a:moveTo>
                  <a:pt x="2302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841" y="20200"/>
                </a:lnTo>
                <a:close/>
              </a:path>
              <a:path fill="lighten" w="2302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0" name="AutoShape 11"/>
          <p:cNvSpPr/>
          <p:nvPr/>
        </p:nvSpPr>
        <p:spPr>
          <a:xfrm>
            <a:off x="1143000" y="4038480"/>
            <a:ext cx="5181480" cy="609840"/>
          </a:xfrm>
          <a:custGeom>
            <a:avLst/>
            <a:gdLst>
              <a:gd name="textAreaLeft" fmla="*/ 39240 w 5181480"/>
              <a:gd name="textAreaRight" fmla="*/ 5142240 w 518148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183428" h="21600">
                <a:moveTo>
                  <a:pt x="0" y="0"/>
                </a:moveTo>
                <a:lnTo>
                  <a:pt x="183428" y="0"/>
                </a:lnTo>
                <a:lnTo>
                  <a:pt x="183428" y="21600"/>
                </a:lnTo>
                <a:lnTo>
                  <a:pt x="0" y="21600"/>
                </a:lnTo>
                <a:close/>
              </a:path>
              <a:path fill="lightenLess" w="183428" h="21600">
                <a:moveTo>
                  <a:pt x="0" y="0"/>
                </a:moveTo>
                <a:lnTo>
                  <a:pt x="183428" y="0"/>
                </a:lnTo>
                <a:lnTo>
                  <a:pt x="182028" y="1400"/>
                </a:lnTo>
                <a:lnTo>
                  <a:pt x="1400" y="1400"/>
                </a:lnTo>
                <a:close/>
              </a:path>
              <a:path fill="darken" w="183428" h="21600">
                <a:moveTo>
                  <a:pt x="183428" y="0"/>
                </a:moveTo>
                <a:lnTo>
                  <a:pt x="183428" y="21600"/>
                </a:lnTo>
                <a:lnTo>
                  <a:pt x="182028" y="20200"/>
                </a:lnTo>
                <a:lnTo>
                  <a:pt x="182028" y="1400"/>
                </a:lnTo>
                <a:close/>
              </a:path>
              <a:path fill="darkenLess" w="183428" h="21600">
                <a:moveTo>
                  <a:pt x="18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82028" y="20200"/>
                </a:lnTo>
                <a:close/>
              </a:path>
              <a:path fill="lighten" w="18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1" name="AutoShape 12"/>
          <p:cNvSpPr/>
          <p:nvPr/>
        </p:nvSpPr>
        <p:spPr>
          <a:xfrm>
            <a:off x="1143000" y="4800600"/>
            <a:ext cx="4876920" cy="609480"/>
          </a:xfrm>
          <a:custGeom>
            <a:avLst/>
            <a:gdLst>
              <a:gd name="textAreaLeft" fmla="*/ 39240 w 4876920"/>
              <a:gd name="textAreaRight" fmla="*/ 4837680 w 48769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172749" h="21600">
                <a:moveTo>
                  <a:pt x="0" y="0"/>
                </a:moveTo>
                <a:lnTo>
                  <a:pt x="172749" y="0"/>
                </a:lnTo>
                <a:lnTo>
                  <a:pt x="172749" y="21600"/>
                </a:lnTo>
                <a:lnTo>
                  <a:pt x="0" y="21600"/>
                </a:lnTo>
                <a:close/>
              </a:path>
              <a:path fill="lightenLess" w="172749" h="21600">
                <a:moveTo>
                  <a:pt x="0" y="0"/>
                </a:moveTo>
                <a:lnTo>
                  <a:pt x="172749" y="0"/>
                </a:lnTo>
                <a:lnTo>
                  <a:pt x="171349" y="1400"/>
                </a:lnTo>
                <a:lnTo>
                  <a:pt x="1400" y="1400"/>
                </a:lnTo>
                <a:close/>
              </a:path>
              <a:path fill="darken" w="172749" h="21600">
                <a:moveTo>
                  <a:pt x="172749" y="0"/>
                </a:moveTo>
                <a:lnTo>
                  <a:pt x="172749" y="21600"/>
                </a:lnTo>
                <a:lnTo>
                  <a:pt x="171349" y="20200"/>
                </a:lnTo>
                <a:lnTo>
                  <a:pt x="171349" y="1400"/>
                </a:lnTo>
                <a:close/>
              </a:path>
              <a:path fill="darkenLess" w="172749" h="21600">
                <a:moveTo>
                  <a:pt x="1727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71349" y="20200"/>
                </a:lnTo>
                <a:close/>
              </a:path>
              <a:path fill="lighten" w="1727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2" name="AutoShape 13"/>
          <p:cNvSpPr/>
          <p:nvPr/>
        </p:nvSpPr>
        <p:spPr>
          <a:xfrm>
            <a:off x="1295280" y="2895480"/>
            <a:ext cx="6248520" cy="838440"/>
          </a:xfrm>
          <a:custGeom>
            <a:avLst/>
            <a:gdLst>
              <a:gd name="textAreaLeft" fmla="*/ 54360 w 6248520"/>
              <a:gd name="textAreaRight" fmla="*/ 6194160 w 62485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160915" h="21600">
                <a:moveTo>
                  <a:pt x="0" y="0"/>
                </a:moveTo>
                <a:lnTo>
                  <a:pt x="160915" y="0"/>
                </a:lnTo>
                <a:lnTo>
                  <a:pt x="160915" y="21600"/>
                </a:lnTo>
                <a:lnTo>
                  <a:pt x="0" y="21600"/>
                </a:lnTo>
                <a:close/>
              </a:path>
              <a:path fill="lightenLess" w="160915" h="21600">
                <a:moveTo>
                  <a:pt x="0" y="0"/>
                </a:moveTo>
                <a:lnTo>
                  <a:pt x="160915" y="0"/>
                </a:lnTo>
                <a:lnTo>
                  <a:pt x="159515" y="1400"/>
                </a:lnTo>
                <a:lnTo>
                  <a:pt x="1400" y="1400"/>
                </a:lnTo>
                <a:close/>
              </a:path>
              <a:path fill="darken" w="160915" h="21600">
                <a:moveTo>
                  <a:pt x="160915" y="0"/>
                </a:moveTo>
                <a:lnTo>
                  <a:pt x="160915" y="21600"/>
                </a:lnTo>
                <a:lnTo>
                  <a:pt x="159515" y="20200"/>
                </a:lnTo>
                <a:lnTo>
                  <a:pt x="159515" y="1400"/>
                </a:lnTo>
                <a:close/>
              </a:path>
              <a:path fill="darkenLess" w="160915" h="21600">
                <a:moveTo>
                  <a:pt x="1609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59515" y="20200"/>
                </a:lnTo>
                <a:close/>
              </a:path>
              <a:path fill="lighten" w="1609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16861F3E.WAV" descr=""/>
          <p:cNvPicPr/>
          <p:nvPr/>
        </p:nvPicPr>
        <p:blipFill>
          <a:blip r:embed="rId1"/>
          <a:stretch/>
        </p:blipFill>
        <p:spPr>
          <a:xfrm>
            <a:off x="6248520" y="48769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7" descr="babysmall"/>
          <p:cNvPicPr/>
          <p:nvPr/>
        </p:nvPicPr>
        <p:blipFill>
          <a:blip r:embed="rId2"/>
          <a:stretch/>
        </p:blipFill>
        <p:spPr>
          <a:xfrm>
            <a:off x="5181480" y="2286000"/>
            <a:ext cx="2514600" cy="3048120"/>
          </a:xfrm>
          <a:prstGeom prst="rect">
            <a:avLst/>
          </a:prstGeom>
          <a:ln w="0">
            <a:noFill/>
          </a:ln>
        </p:spPr>
      </p:pic>
      <p:pic>
        <p:nvPicPr>
          <p:cNvPr id="435" name="350CB03D.WAV" descr=""/>
          <p:cNvPicPr/>
          <p:nvPr/>
        </p:nvPicPr>
        <p:blipFill>
          <a:blip r:embed="rId3"/>
          <a:stretch/>
        </p:blipFill>
        <p:spPr>
          <a:xfrm>
            <a:off x="5334120" y="85345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436" name="350CB03D.WAV" descr=""/>
          <p:cNvPicPr/>
          <p:nvPr/>
        </p:nvPicPr>
        <p:blipFill>
          <a:blip r:embed="rId4"/>
          <a:stretch/>
        </p:blipFill>
        <p:spPr>
          <a:xfrm>
            <a:off x="5029200" y="80773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660033"/>
                </a:solidFill>
                <a:latin typeface="Comic Sans MS"/>
              </a:rPr>
              <a:t>WOW!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>
                <a:alpha val="75000"/>
              </a:srgbClr>
            </a:outerShdw>
          </a:effectLst>
        </p:spPr>
        <p:txBody>
          <a:bodyPr anchor="t">
            <a:normAutofit fontScale="93000"/>
          </a:bodyPr>
          <a:p>
            <a:pPr marL="318960" indent="-318960">
              <a:spcBef>
                <a:spcPts val="901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Comic Sans MS"/>
              </a:rPr>
              <a:t>Bravo!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9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omic Sans MS"/>
              </a:rPr>
              <a:t>Good job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901"/>
              </a:spcBef>
              <a:buClr>
                <a:srgbClr val="ffb8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b800"/>
                </a:solidFill>
                <a:latin typeface="Comic Sans MS"/>
              </a:rPr>
              <a:t>You are brilliant!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901"/>
              </a:spcBef>
              <a:buClr>
                <a:srgbClr val="003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600"/>
                </a:solidFill>
                <a:latin typeface="Comic Sans MS"/>
              </a:rPr>
              <a:t>Way to go!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39" name="08A360FF.WAV" descr=""/>
          <p:cNvPicPr/>
          <p:nvPr/>
        </p:nvPicPr>
        <p:blipFill>
          <a:blip r:embed="rId5"/>
          <a:stretch/>
        </p:blipFill>
        <p:spPr>
          <a:xfrm>
            <a:off x="2819520" y="845820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440" name="AutoShape 12">
            <a:hlinkClick r:id="" action="ppaction://hlinkshowjump?jump=nextslide"/>
          </p:cNvPr>
          <p:cNvSpPr/>
          <p:nvPr/>
        </p:nvSpPr>
        <p:spPr>
          <a:xfrm>
            <a:off x="3657600" y="5867280"/>
            <a:ext cx="1728720" cy="990720"/>
          </a:xfrm>
          <a:custGeom>
            <a:avLst/>
            <a:gdLst>
              <a:gd name="textAreaLeft" fmla="*/ 64080 w 1728720"/>
              <a:gd name="textAreaRight" fmla="*/ 1664640 w 172872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7684" h="21600">
                <a:moveTo>
                  <a:pt x="0" y="0"/>
                </a:moveTo>
                <a:lnTo>
                  <a:pt x="37684" y="0"/>
                </a:lnTo>
                <a:lnTo>
                  <a:pt x="37684" y="21600"/>
                </a:lnTo>
                <a:lnTo>
                  <a:pt x="0" y="21600"/>
                </a:lnTo>
                <a:close/>
              </a:path>
              <a:path fill="lightenLess" w="37684" h="21600">
                <a:moveTo>
                  <a:pt x="0" y="0"/>
                </a:moveTo>
                <a:lnTo>
                  <a:pt x="37684" y="0"/>
                </a:lnTo>
                <a:lnTo>
                  <a:pt x="36284" y="1400"/>
                </a:lnTo>
                <a:lnTo>
                  <a:pt x="1400" y="1400"/>
                </a:lnTo>
                <a:close/>
              </a:path>
              <a:path fill="darken" w="37684" h="21600">
                <a:moveTo>
                  <a:pt x="37684" y="0"/>
                </a:moveTo>
                <a:lnTo>
                  <a:pt x="37684" y="21600"/>
                </a:lnTo>
                <a:lnTo>
                  <a:pt x="36284" y="20200"/>
                </a:lnTo>
                <a:lnTo>
                  <a:pt x="36284" y="1400"/>
                </a:lnTo>
                <a:close/>
              </a:path>
              <a:path fill="darkenLess" w="37684" h="21600">
                <a:moveTo>
                  <a:pt x="376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284" y="20200"/>
                </a:lnTo>
                <a:close/>
              </a:path>
              <a:path fill="lighten" w="376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684" h="21600">
                <a:moveTo>
                  <a:pt x="11836" y="3794"/>
                </a:moveTo>
                <a:lnTo>
                  <a:pt x="25849" y="10800"/>
                </a:lnTo>
                <a:lnTo>
                  <a:pt x="11836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687060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Non-fiction (Information) Sec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 third section is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Non-Fiction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Books (also called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Information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Books)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43" name="Picture 5" descr="0618005595"/>
          <p:cNvPicPr/>
          <p:nvPr/>
        </p:nvPicPr>
        <p:blipFill>
          <a:blip r:embed="rId1"/>
          <a:stretch/>
        </p:blipFill>
        <p:spPr>
          <a:xfrm>
            <a:off x="4619520" y="2057400"/>
            <a:ext cx="3751200" cy="3505320"/>
          </a:xfrm>
          <a:prstGeom prst="rect">
            <a:avLst/>
          </a:prstGeom>
          <a:ln w="0">
            <a:noFill/>
          </a:ln>
        </p:spPr>
      </p:pic>
      <p:sp>
        <p:nvSpPr>
          <p:cNvPr id="444" name="AutoShape 6">
            <a:hlinkClick r:id="" action="ppaction://hlinkshowjump?jump=nextslide"/>
          </p:cNvPr>
          <p:cNvSpPr/>
          <p:nvPr/>
        </p:nvSpPr>
        <p:spPr>
          <a:xfrm>
            <a:off x="3429000" y="5867280"/>
            <a:ext cx="1600200" cy="990720"/>
          </a:xfrm>
          <a:custGeom>
            <a:avLst/>
            <a:gdLst>
              <a:gd name="textAreaLeft" fmla="*/ 64080 w 1600200"/>
              <a:gd name="textAreaRight" fmla="*/ 1536120 w 16002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4883" h="21600">
                <a:moveTo>
                  <a:pt x="0" y="0"/>
                </a:moveTo>
                <a:lnTo>
                  <a:pt x="34883" y="0"/>
                </a:lnTo>
                <a:lnTo>
                  <a:pt x="34883" y="21600"/>
                </a:lnTo>
                <a:lnTo>
                  <a:pt x="0" y="21600"/>
                </a:lnTo>
                <a:close/>
              </a:path>
              <a:path fill="lightenLess" w="34883" h="21600">
                <a:moveTo>
                  <a:pt x="0" y="0"/>
                </a:moveTo>
                <a:lnTo>
                  <a:pt x="34883" y="0"/>
                </a:lnTo>
                <a:lnTo>
                  <a:pt x="33483" y="1400"/>
                </a:lnTo>
                <a:lnTo>
                  <a:pt x="1400" y="1400"/>
                </a:lnTo>
                <a:close/>
              </a:path>
              <a:path fill="darken" w="34883" h="21600">
                <a:moveTo>
                  <a:pt x="34883" y="0"/>
                </a:moveTo>
                <a:lnTo>
                  <a:pt x="34883" y="21600"/>
                </a:lnTo>
                <a:lnTo>
                  <a:pt x="33483" y="20200"/>
                </a:lnTo>
                <a:lnTo>
                  <a:pt x="33483" y="1400"/>
                </a:lnTo>
                <a:close/>
              </a:path>
              <a:path fill="darkenLess" w="34883" h="21600">
                <a:moveTo>
                  <a:pt x="348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483" y="20200"/>
                </a:lnTo>
                <a:close/>
              </a:path>
              <a:path fill="lighten" w="348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883" h="21600">
                <a:moveTo>
                  <a:pt x="10435" y="3794"/>
                </a:moveTo>
                <a:lnTo>
                  <a:pt x="24448" y="10800"/>
                </a:lnTo>
                <a:lnTo>
                  <a:pt x="10435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on-Fiction / Information Book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09120" y="2286000"/>
            <a:ext cx="769644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on-Fiction (Information) books are stories that tell about things that are real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on-Fiction books have real places and real things in them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on-Fiction can be about people, about places, about things – they can be history, or geography, crafts, sports, weather, science fair projects, even dinosaurs . . 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7" name="AutoShape 4"/>
          <p:cNvSpPr/>
          <p:nvPr/>
        </p:nvSpPr>
        <p:spPr>
          <a:xfrm>
            <a:off x="3657600" y="6172200"/>
            <a:ext cx="1523880" cy="685800"/>
          </a:xfrm>
          <a:custGeom>
            <a:avLst/>
            <a:gdLst>
              <a:gd name="textAreaLeft" fmla="*/ 44280 w 1523880"/>
              <a:gd name="textAreaRight" fmla="*/ 1479600 w 15238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7982" h="21600">
                <a:moveTo>
                  <a:pt x="0" y="0"/>
                </a:moveTo>
                <a:lnTo>
                  <a:pt x="47982" y="0"/>
                </a:lnTo>
                <a:lnTo>
                  <a:pt x="47982" y="21600"/>
                </a:lnTo>
                <a:lnTo>
                  <a:pt x="0" y="21600"/>
                </a:lnTo>
                <a:close/>
              </a:path>
              <a:path fill="lightenLess" w="47982" h="21600">
                <a:moveTo>
                  <a:pt x="0" y="0"/>
                </a:moveTo>
                <a:lnTo>
                  <a:pt x="47982" y="0"/>
                </a:lnTo>
                <a:lnTo>
                  <a:pt x="46582" y="1400"/>
                </a:lnTo>
                <a:lnTo>
                  <a:pt x="1400" y="1400"/>
                </a:lnTo>
                <a:close/>
              </a:path>
              <a:path fill="darken" w="47982" h="21600">
                <a:moveTo>
                  <a:pt x="47982" y="0"/>
                </a:moveTo>
                <a:lnTo>
                  <a:pt x="47982" y="21600"/>
                </a:lnTo>
                <a:lnTo>
                  <a:pt x="46582" y="20200"/>
                </a:lnTo>
                <a:lnTo>
                  <a:pt x="46582" y="1400"/>
                </a:lnTo>
                <a:close/>
              </a:path>
              <a:path fill="darkenLess" w="47982" h="21600">
                <a:moveTo>
                  <a:pt x="479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582" y="20200"/>
                </a:lnTo>
                <a:close/>
              </a:path>
              <a:path fill="lighten" w="479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7982" h="21600">
                <a:moveTo>
                  <a:pt x="16985" y="3794"/>
                </a:moveTo>
                <a:lnTo>
                  <a:pt x="30998" y="10800"/>
                </a:lnTo>
                <a:lnTo>
                  <a:pt x="16985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6870600" cy="106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ad this to practi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on-Fiction (Information) books are stories that tell about things that are real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on-Fiction can be about people, about places, about things – they can be history, or geography, crafts, sports, weather, science fair projects, even dinosaurs . . 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0" name="AutoShape 4"/>
          <p:cNvSpPr/>
          <p:nvPr/>
        </p:nvSpPr>
        <p:spPr>
          <a:xfrm>
            <a:off x="3200400" y="5715000"/>
            <a:ext cx="2819520" cy="1143000"/>
          </a:xfrm>
          <a:custGeom>
            <a:avLst/>
            <a:gdLst>
              <a:gd name="textAreaLeft" fmla="*/ 73800 w 2819520"/>
              <a:gd name="textAreaRight" fmla="*/ 2745720 w 281952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53272" h="21600">
                <a:moveTo>
                  <a:pt x="0" y="0"/>
                </a:moveTo>
                <a:lnTo>
                  <a:pt x="53272" y="0"/>
                </a:lnTo>
                <a:lnTo>
                  <a:pt x="53272" y="21600"/>
                </a:lnTo>
                <a:lnTo>
                  <a:pt x="0" y="21600"/>
                </a:lnTo>
                <a:close/>
              </a:path>
              <a:path fill="lightenLess" w="53272" h="21600">
                <a:moveTo>
                  <a:pt x="0" y="0"/>
                </a:moveTo>
                <a:lnTo>
                  <a:pt x="53272" y="0"/>
                </a:lnTo>
                <a:lnTo>
                  <a:pt x="51872" y="1400"/>
                </a:lnTo>
                <a:lnTo>
                  <a:pt x="1400" y="1400"/>
                </a:lnTo>
                <a:close/>
              </a:path>
              <a:path fill="darken" w="53272" h="21600">
                <a:moveTo>
                  <a:pt x="53272" y="0"/>
                </a:moveTo>
                <a:lnTo>
                  <a:pt x="53272" y="21600"/>
                </a:lnTo>
                <a:lnTo>
                  <a:pt x="51872" y="20200"/>
                </a:lnTo>
                <a:lnTo>
                  <a:pt x="51872" y="1400"/>
                </a:lnTo>
                <a:close/>
              </a:path>
              <a:path fill="darkenLess" w="53272" h="21600">
                <a:moveTo>
                  <a:pt x="532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872" y="20200"/>
                </a:lnTo>
                <a:close/>
              </a:path>
              <a:path fill="lighten" w="532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lick to answe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spine of a book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6960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spine of a book is the part that you see when the book is on the shelf, and other books are alongside your book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spine of a book helps hold your book together and keep it strong just like the spine in your body does!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AutoShape 4">
            <a:hlinkClick r:id="" action="ppaction://hlinkshowjump?jump=nextslide"/>
          </p:cNvPr>
          <p:cNvSpPr/>
          <p:nvPr/>
        </p:nvSpPr>
        <p:spPr>
          <a:xfrm>
            <a:off x="3962520" y="5791320"/>
            <a:ext cx="1371600" cy="761760"/>
          </a:xfrm>
          <a:custGeom>
            <a:avLst/>
            <a:gdLst>
              <a:gd name="textAreaLeft" fmla="*/ 49320 w 1371600"/>
              <a:gd name="textAreaRight" fmla="*/ 1322280 w 137160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38884" h="21600">
                <a:moveTo>
                  <a:pt x="0" y="0"/>
                </a:moveTo>
                <a:lnTo>
                  <a:pt x="38884" y="0"/>
                </a:lnTo>
                <a:lnTo>
                  <a:pt x="38884" y="21600"/>
                </a:lnTo>
                <a:lnTo>
                  <a:pt x="0" y="21600"/>
                </a:lnTo>
                <a:close/>
              </a:path>
              <a:path fill="lightenLess" w="38884" h="21600">
                <a:moveTo>
                  <a:pt x="0" y="0"/>
                </a:moveTo>
                <a:lnTo>
                  <a:pt x="38884" y="0"/>
                </a:lnTo>
                <a:lnTo>
                  <a:pt x="37484" y="1400"/>
                </a:lnTo>
                <a:lnTo>
                  <a:pt x="1400" y="1400"/>
                </a:lnTo>
                <a:close/>
              </a:path>
              <a:path fill="darken" w="38884" h="21600">
                <a:moveTo>
                  <a:pt x="38884" y="0"/>
                </a:moveTo>
                <a:lnTo>
                  <a:pt x="38884" y="21600"/>
                </a:lnTo>
                <a:lnTo>
                  <a:pt x="37484" y="20200"/>
                </a:lnTo>
                <a:lnTo>
                  <a:pt x="37484" y="1400"/>
                </a:lnTo>
                <a:close/>
              </a:path>
              <a:path fill="darkenLess" w="38884" h="21600">
                <a:moveTo>
                  <a:pt x="388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84" y="20200"/>
                </a:lnTo>
                <a:close/>
              </a:path>
              <a:path fill="lighten" w="388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84" h="21600">
                <a:moveTo>
                  <a:pt x="12436" y="3794"/>
                </a:moveTo>
                <a:lnTo>
                  <a:pt x="26449" y="10800"/>
                </a:lnTo>
                <a:lnTo>
                  <a:pt x="12436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is the best answer for non-fiction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69608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Non-fiction is pretend, or made-up (make-believe)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Real information is found in non-fictio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Non-Fiction can be about people, about places, or about things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3" name="AutoShape 4"/>
          <p:cNvSpPr/>
          <p:nvPr/>
        </p:nvSpPr>
        <p:spPr>
          <a:xfrm>
            <a:off x="1143000" y="2057400"/>
            <a:ext cx="6095880" cy="838080"/>
          </a:xfrm>
          <a:custGeom>
            <a:avLst/>
            <a:gdLst>
              <a:gd name="textAreaLeft" fmla="*/ 54000 w 6095880"/>
              <a:gd name="textAreaRight" fmla="*/ 6041880 w 60958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157052" h="21600">
                <a:moveTo>
                  <a:pt x="0" y="0"/>
                </a:moveTo>
                <a:lnTo>
                  <a:pt x="157052" y="0"/>
                </a:lnTo>
                <a:lnTo>
                  <a:pt x="157052" y="21600"/>
                </a:lnTo>
                <a:lnTo>
                  <a:pt x="0" y="21600"/>
                </a:lnTo>
                <a:close/>
              </a:path>
              <a:path fill="lightenLess" w="157052" h="21600">
                <a:moveTo>
                  <a:pt x="0" y="0"/>
                </a:moveTo>
                <a:lnTo>
                  <a:pt x="157052" y="0"/>
                </a:lnTo>
                <a:lnTo>
                  <a:pt x="155652" y="1400"/>
                </a:lnTo>
                <a:lnTo>
                  <a:pt x="1400" y="1400"/>
                </a:lnTo>
                <a:close/>
              </a:path>
              <a:path fill="darken" w="157052" h="21600">
                <a:moveTo>
                  <a:pt x="157052" y="0"/>
                </a:moveTo>
                <a:lnTo>
                  <a:pt x="157052" y="21600"/>
                </a:lnTo>
                <a:lnTo>
                  <a:pt x="155652" y="20200"/>
                </a:lnTo>
                <a:lnTo>
                  <a:pt x="155652" y="1400"/>
                </a:lnTo>
                <a:close/>
              </a:path>
              <a:path fill="darkenLess" w="157052" h="21600">
                <a:moveTo>
                  <a:pt x="1570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55652" y="20200"/>
                </a:lnTo>
                <a:close/>
              </a:path>
              <a:path fill="lighten" w="1570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4" name="AutoShape 5"/>
          <p:cNvSpPr/>
          <p:nvPr/>
        </p:nvSpPr>
        <p:spPr>
          <a:xfrm>
            <a:off x="1066680" y="3200400"/>
            <a:ext cx="6705720" cy="762120"/>
          </a:xfrm>
          <a:custGeom>
            <a:avLst/>
            <a:gdLst>
              <a:gd name="textAreaLeft" fmla="*/ 49320 w 6705720"/>
              <a:gd name="textAreaRight" fmla="*/ 6656400 w 67057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189974" h="21600">
                <a:moveTo>
                  <a:pt x="0" y="0"/>
                </a:moveTo>
                <a:lnTo>
                  <a:pt x="189974" y="0"/>
                </a:lnTo>
                <a:lnTo>
                  <a:pt x="189974" y="21600"/>
                </a:lnTo>
                <a:lnTo>
                  <a:pt x="0" y="21600"/>
                </a:lnTo>
                <a:close/>
              </a:path>
              <a:path fill="lightenLess" w="189974" h="21600">
                <a:moveTo>
                  <a:pt x="0" y="0"/>
                </a:moveTo>
                <a:lnTo>
                  <a:pt x="189974" y="0"/>
                </a:lnTo>
                <a:lnTo>
                  <a:pt x="188574" y="1400"/>
                </a:lnTo>
                <a:lnTo>
                  <a:pt x="1400" y="1400"/>
                </a:lnTo>
                <a:close/>
              </a:path>
              <a:path fill="darken" w="189974" h="21600">
                <a:moveTo>
                  <a:pt x="189974" y="0"/>
                </a:moveTo>
                <a:lnTo>
                  <a:pt x="189974" y="21600"/>
                </a:lnTo>
                <a:lnTo>
                  <a:pt x="188574" y="20200"/>
                </a:lnTo>
                <a:lnTo>
                  <a:pt x="188574" y="1400"/>
                </a:lnTo>
                <a:close/>
              </a:path>
              <a:path fill="darkenLess" w="189974" h="21600">
                <a:moveTo>
                  <a:pt x="18997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88574" y="20200"/>
                </a:lnTo>
                <a:close/>
              </a:path>
              <a:path fill="lighten" w="18997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5" name="AutoShape 6"/>
          <p:cNvSpPr/>
          <p:nvPr/>
        </p:nvSpPr>
        <p:spPr>
          <a:xfrm>
            <a:off x="990720" y="4267080"/>
            <a:ext cx="6019560" cy="914400"/>
          </a:xfrm>
          <a:custGeom>
            <a:avLst/>
            <a:gdLst>
              <a:gd name="textAreaLeft" fmla="*/ 59040 w 6019560"/>
              <a:gd name="textAreaRight" fmla="*/ 5960520 w 601956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142147" h="21600">
                <a:moveTo>
                  <a:pt x="0" y="0"/>
                </a:moveTo>
                <a:lnTo>
                  <a:pt x="142147" y="0"/>
                </a:lnTo>
                <a:lnTo>
                  <a:pt x="142147" y="21600"/>
                </a:lnTo>
                <a:lnTo>
                  <a:pt x="0" y="21600"/>
                </a:lnTo>
                <a:close/>
              </a:path>
              <a:path fill="lightenLess" w="142147" h="21600">
                <a:moveTo>
                  <a:pt x="0" y="0"/>
                </a:moveTo>
                <a:lnTo>
                  <a:pt x="142147" y="0"/>
                </a:lnTo>
                <a:lnTo>
                  <a:pt x="140747" y="1400"/>
                </a:lnTo>
                <a:lnTo>
                  <a:pt x="1400" y="1400"/>
                </a:lnTo>
                <a:close/>
              </a:path>
              <a:path fill="darken" w="142147" h="21600">
                <a:moveTo>
                  <a:pt x="142147" y="0"/>
                </a:moveTo>
                <a:lnTo>
                  <a:pt x="142147" y="21600"/>
                </a:lnTo>
                <a:lnTo>
                  <a:pt x="140747" y="20200"/>
                </a:lnTo>
                <a:lnTo>
                  <a:pt x="140747" y="1400"/>
                </a:lnTo>
                <a:close/>
              </a:path>
              <a:path fill="darkenLess" w="142147" h="21600">
                <a:moveTo>
                  <a:pt x="1421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40747" y="20200"/>
                </a:lnTo>
                <a:close/>
              </a:path>
              <a:path fill="lighten" w="1421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6" name="Text Box 7"/>
          <p:cNvSpPr/>
          <p:nvPr/>
        </p:nvSpPr>
        <p:spPr>
          <a:xfrm>
            <a:off x="2819520" y="6019920"/>
            <a:ext cx="373356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b8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33"/>
                </a:solidFill>
                <a:latin typeface="Comic Sans MS"/>
              </a:rPr>
              <a:t>Click the best answer choic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wesome answer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You rock!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59" name="Picture 7" descr="j0275968[1]"/>
          <p:cNvPicPr/>
          <p:nvPr/>
        </p:nvPicPr>
        <p:blipFill>
          <a:blip r:embed="rId1"/>
          <a:stretch/>
        </p:blipFill>
        <p:spPr>
          <a:xfrm>
            <a:off x="5105520" y="1981080"/>
            <a:ext cx="2779560" cy="3276720"/>
          </a:xfrm>
          <a:prstGeom prst="rect">
            <a:avLst/>
          </a:prstGeom>
          <a:ln w="0">
            <a:noFill/>
          </a:ln>
        </p:spPr>
      </p:pic>
      <p:sp>
        <p:nvSpPr>
          <p:cNvPr id="460" name="AutoShape 9">
            <a:hlinkClick r:id="" action="ppaction://hlinkshowjump?jump=nextslide"/>
          </p:cNvPr>
          <p:cNvSpPr/>
          <p:nvPr/>
        </p:nvSpPr>
        <p:spPr>
          <a:xfrm>
            <a:off x="3276720" y="5486400"/>
            <a:ext cx="1981080" cy="1371600"/>
          </a:xfrm>
          <a:custGeom>
            <a:avLst/>
            <a:gdLst>
              <a:gd name="textAreaLeft" fmla="*/ 88920 w 1981080"/>
              <a:gd name="textAreaRight" fmla="*/ 1892160 w 1981080"/>
              <a:gd name="textAreaTop" fmla="*/ 88920 h 1371600"/>
              <a:gd name="textAreaBottom" fmla="*/ 1282680 h 1371600"/>
            </a:gdLst>
            <a:ahLst/>
            <a:rect l="textAreaLeft" t="textAreaTop" r="textAreaRight" b="textAreaBottom"/>
            <a:pathLst>
              <a:path w="31196" h="21600">
                <a:moveTo>
                  <a:pt x="0" y="0"/>
                </a:moveTo>
                <a:lnTo>
                  <a:pt x="31196" y="0"/>
                </a:lnTo>
                <a:lnTo>
                  <a:pt x="31196" y="21600"/>
                </a:lnTo>
                <a:lnTo>
                  <a:pt x="0" y="21600"/>
                </a:lnTo>
                <a:close/>
              </a:path>
              <a:path fill="lightenLess" w="31196" h="21600">
                <a:moveTo>
                  <a:pt x="0" y="0"/>
                </a:moveTo>
                <a:lnTo>
                  <a:pt x="31196" y="0"/>
                </a:lnTo>
                <a:lnTo>
                  <a:pt x="29796" y="1400"/>
                </a:lnTo>
                <a:lnTo>
                  <a:pt x="1400" y="1400"/>
                </a:lnTo>
                <a:close/>
              </a:path>
              <a:path fill="darken" w="31196" h="21600">
                <a:moveTo>
                  <a:pt x="31196" y="0"/>
                </a:moveTo>
                <a:lnTo>
                  <a:pt x="31196" y="21600"/>
                </a:lnTo>
                <a:lnTo>
                  <a:pt x="29796" y="20200"/>
                </a:lnTo>
                <a:lnTo>
                  <a:pt x="29796" y="1400"/>
                </a:lnTo>
                <a:close/>
              </a:path>
              <a:path fill="darkenLess" w="31196" h="21600">
                <a:moveTo>
                  <a:pt x="311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796" y="20200"/>
                </a:lnTo>
                <a:close/>
              </a:path>
              <a:path fill="lighten" w="311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196" h="21600">
                <a:moveTo>
                  <a:pt x="8591" y="3794"/>
                </a:moveTo>
                <a:lnTo>
                  <a:pt x="22604" y="10800"/>
                </a:lnTo>
                <a:lnTo>
                  <a:pt x="8591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61" name="16 Let it Go.m4a" descr="/Users/tburgey/Music/iTunes/iTunes Music/Def Leopard/High and Dry/16 Let it Go.m4a"/>
          <p:cNvPicPr/>
          <p:nvPr/>
        </p:nvPicPr>
        <p:blipFill>
          <a:blip r:embed="rId2"/>
          <a:stretch/>
        </p:blipFill>
        <p:spPr>
          <a:xfrm>
            <a:off x="3809880" y="3079800"/>
            <a:ext cx="152424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61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461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4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iography Sectio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609800" y="1828800"/>
            <a:ext cx="37717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fourth section is called  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Biographies.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iographies ar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kind of non-fiction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64" name="Picture 5" descr="1570612935"/>
          <p:cNvPicPr/>
          <p:nvPr/>
        </p:nvPicPr>
        <p:blipFill>
          <a:blip r:embed="rId1"/>
          <a:stretch/>
        </p:blipFill>
        <p:spPr>
          <a:xfrm>
            <a:off x="685800" y="1828800"/>
            <a:ext cx="3772080" cy="2895480"/>
          </a:xfrm>
          <a:prstGeom prst="rect">
            <a:avLst/>
          </a:prstGeom>
          <a:ln w="0">
            <a:noFill/>
          </a:ln>
        </p:spPr>
      </p:pic>
      <p:sp>
        <p:nvSpPr>
          <p:cNvPr id="465" name="AutoShape 6">
            <a:hlinkClick r:id="" action="ppaction://hlinkshowjump?jump=nextslide"/>
          </p:cNvPr>
          <p:cNvSpPr/>
          <p:nvPr/>
        </p:nvSpPr>
        <p:spPr>
          <a:xfrm>
            <a:off x="3581280" y="5486400"/>
            <a:ext cx="1905120" cy="1371600"/>
          </a:xfrm>
          <a:custGeom>
            <a:avLst/>
            <a:gdLst>
              <a:gd name="textAreaLeft" fmla="*/ 88920 w 1905120"/>
              <a:gd name="textAreaRight" fmla="*/ 1816200 w 1905120"/>
              <a:gd name="textAreaTop" fmla="*/ 88920 h 1371600"/>
              <a:gd name="textAreaBottom" fmla="*/ 1282680 h 1371600"/>
            </a:gdLst>
            <a:ahLst/>
            <a:rect l="textAreaLeft" t="textAreaTop" r="textAreaRight" b="textAreaBottom"/>
            <a:pathLst>
              <a:path w="30000" h="21600">
                <a:moveTo>
                  <a:pt x="0" y="0"/>
                </a:moveTo>
                <a:lnTo>
                  <a:pt x="30000" y="0"/>
                </a:lnTo>
                <a:lnTo>
                  <a:pt x="30000" y="21600"/>
                </a:lnTo>
                <a:lnTo>
                  <a:pt x="0" y="21600"/>
                </a:lnTo>
                <a:close/>
              </a:path>
              <a:path fill="lightenLess" w="30000" h="21600">
                <a:moveTo>
                  <a:pt x="0" y="0"/>
                </a:moveTo>
                <a:lnTo>
                  <a:pt x="30000" y="0"/>
                </a:lnTo>
                <a:lnTo>
                  <a:pt x="28600" y="1400"/>
                </a:lnTo>
                <a:lnTo>
                  <a:pt x="1400" y="1400"/>
                </a:lnTo>
                <a:close/>
              </a:path>
              <a:path fill="darken" w="30000" h="21600">
                <a:moveTo>
                  <a:pt x="30000" y="0"/>
                </a:moveTo>
                <a:lnTo>
                  <a:pt x="30000" y="21600"/>
                </a:lnTo>
                <a:lnTo>
                  <a:pt x="28600" y="20200"/>
                </a:lnTo>
                <a:lnTo>
                  <a:pt x="28600" y="1400"/>
                </a:lnTo>
                <a:close/>
              </a:path>
              <a:path fill="darkenLess" w="30000" h="21600">
                <a:moveTo>
                  <a:pt x="30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600" y="20200"/>
                </a:lnTo>
                <a:close/>
              </a:path>
              <a:path fill="lighten" w="30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000" h="21600">
                <a:moveTo>
                  <a:pt x="7993" y="3794"/>
                </a:moveTo>
                <a:lnTo>
                  <a:pt x="22006" y="10800"/>
                </a:lnTo>
                <a:lnTo>
                  <a:pt x="7993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iograph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09120" y="2286000"/>
            <a:ext cx="769644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iographies are about real peopl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iographies tell about the life of a person that lived in the past or even one that lives now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iographies are true, and they are about real people, not made-up character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8" name="AutoShape 4">
            <a:hlinkClick r:id="" action="ppaction://hlinkshowjump?jump=nextslide"/>
          </p:cNvPr>
          <p:cNvSpPr/>
          <p:nvPr/>
        </p:nvSpPr>
        <p:spPr>
          <a:xfrm>
            <a:off x="3657600" y="5715000"/>
            <a:ext cx="1905120" cy="1042920"/>
          </a:xfrm>
          <a:custGeom>
            <a:avLst/>
            <a:gdLst>
              <a:gd name="textAreaLeft" fmla="*/ 67320 w 1905120"/>
              <a:gd name="textAreaRight" fmla="*/ 1837800 w 19051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39451" h="21600">
                <a:moveTo>
                  <a:pt x="0" y="0"/>
                </a:moveTo>
                <a:lnTo>
                  <a:pt x="39451" y="0"/>
                </a:lnTo>
                <a:lnTo>
                  <a:pt x="39451" y="21600"/>
                </a:lnTo>
                <a:lnTo>
                  <a:pt x="0" y="21600"/>
                </a:lnTo>
                <a:close/>
              </a:path>
              <a:path fill="lightenLess" w="39451" h="21600">
                <a:moveTo>
                  <a:pt x="0" y="0"/>
                </a:moveTo>
                <a:lnTo>
                  <a:pt x="39451" y="0"/>
                </a:lnTo>
                <a:lnTo>
                  <a:pt x="38051" y="1400"/>
                </a:lnTo>
                <a:lnTo>
                  <a:pt x="1400" y="1400"/>
                </a:lnTo>
                <a:close/>
              </a:path>
              <a:path fill="darken" w="39451" h="21600">
                <a:moveTo>
                  <a:pt x="39451" y="0"/>
                </a:moveTo>
                <a:lnTo>
                  <a:pt x="39451" y="21600"/>
                </a:lnTo>
                <a:lnTo>
                  <a:pt x="38051" y="20200"/>
                </a:lnTo>
                <a:lnTo>
                  <a:pt x="38051" y="1400"/>
                </a:lnTo>
                <a:close/>
              </a:path>
              <a:path fill="darkenLess" w="39451" h="21600">
                <a:moveTo>
                  <a:pt x="394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051" y="20200"/>
                </a:lnTo>
                <a:close/>
              </a:path>
              <a:path fill="lighten" w="394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451" h="21600">
                <a:moveTo>
                  <a:pt x="12719" y="3794"/>
                </a:moveTo>
                <a:lnTo>
                  <a:pt x="26732" y="10800"/>
                </a:lnTo>
                <a:lnTo>
                  <a:pt x="12719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iography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is is a biography about a real person.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Michael Jordon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71" name="Picture 11" descr="0689833717"/>
          <p:cNvPicPr/>
          <p:nvPr/>
        </p:nvPicPr>
        <p:blipFill>
          <a:blip r:embed="rId1"/>
          <a:stretch/>
        </p:blipFill>
        <p:spPr>
          <a:xfrm>
            <a:off x="5049720" y="2362320"/>
            <a:ext cx="2022480" cy="3052800"/>
          </a:xfrm>
          <a:prstGeom prst="rect">
            <a:avLst/>
          </a:prstGeom>
          <a:ln w="0">
            <a:noFill/>
          </a:ln>
        </p:spPr>
      </p:pic>
      <p:sp>
        <p:nvSpPr>
          <p:cNvPr id="472" name="AutoShape 14">
            <a:hlinkClick r:id="" action="ppaction://hlinkshowjump?jump=nextslide"/>
          </p:cNvPr>
          <p:cNvSpPr/>
          <p:nvPr/>
        </p:nvSpPr>
        <p:spPr>
          <a:xfrm>
            <a:off x="3657600" y="5715000"/>
            <a:ext cx="1805040" cy="1143000"/>
          </a:xfrm>
          <a:custGeom>
            <a:avLst/>
            <a:gdLst>
              <a:gd name="textAreaLeft" fmla="*/ 73800 w 1805040"/>
              <a:gd name="textAreaRight" fmla="*/ 1731240 w 18050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107" h="21600">
                <a:moveTo>
                  <a:pt x="0" y="0"/>
                </a:moveTo>
                <a:lnTo>
                  <a:pt x="34107" y="0"/>
                </a:lnTo>
                <a:lnTo>
                  <a:pt x="34107" y="21600"/>
                </a:lnTo>
                <a:lnTo>
                  <a:pt x="0" y="21600"/>
                </a:lnTo>
                <a:close/>
              </a:path>
              <a:path fill="lightenLess" w="34107" h="21600">
                <a:moveTo>
                  <a:pt x="0" y="0"/>
                </a:moveTo>
                <a:lnTo>
                  <a:pt x="34107" y="0"/>
                </a:lnTo>
                <a:lnTo>
                  <a:pt x="32707" y="1400"/>
                </a:lnTo>
                <a:lnTo>
                  <a:pt x="1400" y="1400"/>
                </a:lnTo>
                <a:close/>
              </a:path>
              <a:path fill="darken" w="34107" h="21600">
                <a:moveTo>
                  <a:pt x="34107" y="0"/>
                </a:moveTo>
                <a:lnTo>
                  <a:pt x="34107" y="21600"/>
                </a:lnTo>
                <a:lnTo>
                  <a:pt x="32707" y="20200"/>
                </a:lnTo>
                <a:lnTo>
                  <a:pt x="32707" y="1400"/>
                </a:lnTo>
                <a:close/>
              </a:path>
              <a:path fill="darkenLess" w="34107" h="21600">
                <a:moveTo>
                  <a:pt x="341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707" y="20200"/>
                </a:lnTo>
                <a:close/>
              </a:path>
              <a:path fill="lighten" w="341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107" h="21600">
                <a:moveTo>
                  <a:pt x="10047" y="3794"/>
                </a:moveTo>
                <a:lnTo>
                  <a:pt x="24060" y="10800"/>
                </a:lnTo>
                <a:lnTo>
                  <a:pt x="10047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is a Biography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book about a real person</a:t>
            </a:r>
            <a:r>
              <a:rPr b="0" lang="ja-JP" sz="3200" spc="-1" strike="noStrike">
                <a:solidFill>
                  <a:srgbClr val="000000"/>
                </a:solidFill>
                <a:latin typeface="Comic Sans MS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 lif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omething made-up and imaginary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t tells definitions or words but doesn</a:t>
            </a:r>
            <a:r>
              <a:rPr b="0" lang="ja-JP" sz="3200" spc="-1" strike="noStrike">
                <a:solidFill>
                  <a:srgbClr val="000000"/>
                </a:solidFill>
                <a:latin typeface="Comic Sans MS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 tell about peopl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5" name="Text Box 4"/>
          <p:cNvSpPr/>
          <p:nvPr/>
        </p:nvSpPr>
        <p:spPr>
          <a:xfrm>
            <a:off x="2666880" y="6172200"/>
            <a:ext cx="381024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b8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33"/>
                </a:solidFill>
                <a:latin typeface="Comic Sans MS"/>
              </a:rPr>
              <a:t>Click on the best answer abov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6" name="AutoShape 5"/>
          <p:cNvSpPr/>
          <p:nvPr/>
        </p:nvSpPr>
        <p:spPr>
          <a:xfrm>
            <a:off x="1066680" y="1752480"/>
            <a:ext cx="6248520" cy="609840"/>
          </a:xfrm>
          <a:custGeom>
            <a:avLst/>
            <a:gdLst>
              <a:gd name="textAreaLeft" fmla="*/ 39240 w 6248520"/>
              <a:gd name="textAreaRight" fmla="*/ 6209280 w 624852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21199" h="21600">
                <a:moveTo>
                  <a:pt x="0" y="0"/>
                </a:moveTo>
                <a:lnTo>
                  <a:pt x="221199" y="0"/>
                </a:lnTo>
                <a:lnTo>
                  <a:pt x="221199" y="21600"/>
                </a:lnTo>
                <a:lnTo>
                  <a:pt x="0" y="21600"/>
                </a:lnTo>
                <a:close/>
              </a:path>
              <a:path fill="lightenLess" w="221199" h="21600">
                <a:moveTo>
                  <a:pt x="0" y="0"/>
                </a:moveTo>
                <a:lnTo>
                  <a:pt x="221199" y="0"/>
                </a:lnTo>
                <a:lnTo>
                  <a:pt x="219799" y="1400"/>
                </a:lnTo>
                <a:lnTo>
                  <a:pt x="1400" y="1400"/>
                </a:lnTo>
                <a:close/>
              </a:path>
              <a:path fill="darken" w="221199" h="21600">
                <a:moveTo>
                  <a:pt x="221199" y="0"/>
                </a:moveTo>
                <a:lnTo>
                  <a:pt x="221199" y="21600"/>
                </a:lnTo>
                <a:lnTo>
                  <a:pt x="219799" y="20200"/>
                </a:lnTo>
                <a:lnTo>
                  <a:pt x="219799" y="1400"/>
                </a:lnTo>
                <a:close/>
              </a:path>
              <a:path fill="darkenLess" w="221199" h="21600">
                <a:moveTo>
                  <a:pt x="2211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799" y="20200"/>
                </a:lnTo>
                <a:close/>
              </a:path>
              <a:path fill="lighten" w="2211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7" name="AutoShape 6"/>
          <p:cNvSpPr/>
          <p:nvPr/>
        </p:nvSpPr>
        <p:spPr>
          <a:xfrm>
            <a:off x="1143000" y="2971800"/>
            <a:ext cx="6172200" cy="762120"/>
          </a:xfrm>
          <a:custGeom>
            <a:avLst/>
            <a:gdLst>
              <a:gd name="textAreaLeft" fmla="*/ 49320 w 6172200"/>
              <a:gd name="textAreaRight" fmla="*/ 6122880 w 61722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174860" h="21600">
                <a:moveTo>
                  <a:pt x="0" y="0"/>
                </a:moveTo>
                <a:lnTo>
                  <a:pt x="174860" y="0"/>
                </a:lnTo>
                <a:lnTo>
                  <a:pt x="174860" y="21600"/>
                </a:lnTo>
                <a:lnTo>
                  <a:pt x="0" y="21600"/>
                </a:lnTo>
                <a:close/>
              </a:path>
              <a:path fill="lightenLess" w="174860" h="21600">
                <a:moveTo>
                  <a:pt x="0" y="0"/>
                </a:moveTo>
                <a:lnTo>
                  <a:pt x="174860" y="0"/>
                </a:lnTo>
                <a:lnTo>
                  <a:pt x="173460" y="1400"/>
                </a:lnTo>
                <a:lnTo>
                  <a:pt x="1400" y="1400"/>
                </a:lnTo>
                <a:close/>
              </a:path>
              <a:path fill="darken" w="174860" h="21600">
                <a:moveTo>
                  <a:pt x="174860" y="0"/>
                </a:moveTo>
                <a:lnTo>
                  <a:pt x="174860" y="21600"/>
                </a:lnTo>
                <a:lnTo>
                  <a:pt x="173460" y="20200"/>
                </a:lnTo>
                <a:lnTo>
                  <a:pt x="173460" y="1400"/>
                </a:lnTo>
                <a:close/>
              </a:path>
              <a:path fill="darkenLess" w="174860" h="21600">
                <a:moveTo>
                  <a:pt x="1748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73460" y="20200"/>
                </a:lnTo>
                <a:close/>
              </a:path>
              <a:path fill="lighten" w="1748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8" name="AutoShape 7"/>
          <p:cNvSpPr/>
          <p:nvPr/>
        </p:nvSpPr>
        <p:spPr>
          <a:xfrm>
            <a:off x="1219320" y="4191120"/>
            <a:ext cx="6095880" cy="1066680"/>
          </a:xfrm>
          <a:custGeom>
            <a:avLst/>
            <a:gdLst>
              <a:gd name="textAreaLeft" fmla="*/ 69120 w 6095880"/>
              <a:gd name="textAreaRight" fmla="*/ 6026760 w 609588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123406" h="21600">
                <a:moveTo>
                  <a:pt x="0" y="0"/>
                </a:moveTo>
                <a:lnTo>
                  <a:pt x="123406" y="0"/>
                </a:lnTo>
                <a:lnTo>
                  <a:pt x="123406" y="21600"/>
                </a:lnTo>
                <a:lnTo>
                  <a:pt x="0" y="21600"/>
                </a:lnTo>
                <a:close/>
              </a:path>
              <a:path fill="lightenLess" w="123406" h="21600">
                <a:moveTo>
                  <a:pt x="0" y="0"/>
                </a:moveTo>
                <a:lnTo>
                  <a:pt x="123406" y="0"/>
                </a:lnTo>
                <a:lnTo>
                  <a:pt x="122006" y="1400"/>
                </a:lnTo>
                <a:lnTo>
                  <a:pt x="1400" y="1400"/>
                </a:lnTo>
                <a:close/>
              </a:path>
              <a:path fill="darken" w="123406" h="21600">
                <a:moveTo>
                  <a:pt x="123406" y="0"/>
                </a:moveTo>
                <a:lnTo>
                  <a:pt x="123406" y="21600"/>
                </a:lnTo>
                <a:lnTo>
                  <a:pt x="122006" y="20200"/>
                </a:lnTo>
                <a:lnTo>
                  <a:pt x="122006" y="1400"/>
                </a:lnTo>
                <a:close/>
              </a:path>
              <a:path fill="darkenLess" w="123406" h="21600">
                <a:moveTo>
                  <a:pt x="1234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2006" y="20200"/>
                </a:lnTo>
                <a:close/>
              </a:path>
              <a:path fill="lighten" w="1234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9" name="8C1EF6B9.WAV" descr=""/>
          <p:cNvPicPr/>
          <p:nvPr/>
        </p:nvPicPr>
        <p:blipFill>
          <a:blip r:embed="rId1"/>
          <a:stretch/>
        </p:blipFill>
        <p:spPr>
          <a:xfrm>
            <a:off x="2209680" y="34290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-5791320" y="-360"/>
            <a:ext cx="5334120" cy="16002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81" name="Picture 3" descr=""/>
          <p:cNvPicPr/>
          <p:nvPr/>
        </p:nvPicPr>
        <p:blipFill>
          <a:blip r:embed="rId2"/>
          <a:stretch/>
        </p:blipFill>
        <p:spPr>
          <a:xfrm>
            <a:off x="914400" y="2209680"/>
            <a:ext cx="3273480" cy="3276720"/>
          </a:xfrm>
          <a:prstGeom prst="rect">
            <a:avLst/>
          </a:prstGeom>
          <a:ln w="0">
            <a:noFill/>
          </a:ln>
        </p:spPr>
      </p:pic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609800" y="1828800"/>
            <a:ext cx="37717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You answered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rrectly.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ow you may go on to the next slid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3" name="WordArt 9"/>
          <p:cNvSpPr txBox="1"/>
          <p:nvPr/>
        </p:nvSpPr>
        <p:spPr>
          <a:xfrm>
            <a:off x="1523880" y="380880"/>
            <a:ext cx="571500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Hurray!  </a:t>
            </a:r>
            <a:endParaRPr b="0" lang="en-US" sz="2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84" name="Text Box 10"/>
          <p:cNvSpPr/>
          <p:nvPr/>
        </p:nvSpPr>
        <p:spPr>
          <a:xfrm>
            <a:off x="2743200" y="601992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Comic Sans MS"/>
              </a:rPr>
              <a:t>Click here to go to the next slid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5" name="AutoShape 11">
            <a:hlinkClick r:id="" action="ppaction://hlinkshowjump?jump=nextslide"/>
          </p:cNvPr>
          <p:cNvSpPr/>
          <p:nvPr/>
        </p:nvSpPr>
        <p:spPr>
          <a:xfrm>
            <a:off x="2895480" y="5867280"/>
            <a:ext cx="3505320" cy="533520"/>
          </a:xfrm>
          <a:custGeom>
            <a:avLst/>
            <a:gdLst>
              <a:gd name="textAreaLeft" fmla="*/ 34560 w 3505320"/>
              <a:gd name="textAreaRight" fmla="*/ 3470760 w 35053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141835" h="21600">
                <a:moveTo>
                  <a:pt x="0" y="0"/>
                </a:moveTo>
                <a:lnTo>
                  <a:pt x="141835" y="0"/>
                </a:lnTo>
                <a:lnTo>
                  <a:pt x="141835" y="21600"/>
                </a:lnTo>
                <a:lnTo>
                  <a:pt x="0" y="21600"/>
                </a:lnTo>
                <a:close/>
              </a:path>
              <a:path fill="lightenLess" w="141835" h="21600">
                <a:moveTo>
                  <a:pt x="0" y="0"/>
                </a:moveTo>
                <a:lnTo>
                  <a:pt x="141835" y="0"/>
                </a:lnTo>
                <a:lnTo>
                  <a:pt x="140435" y="1400"/>
                </a:lnTo>
                <a:lnTo>
                  <a:pt x="1400" y="1400"/>
                </a:lnTo>
                <a:close/>
              </a:path>
              <a:path fill="darken" w="141835" h="21600">
                <a:moveTo>
                  <a:pt x="141835" y="0"/>
                </a:moveTo>
                <a:lnTo>
                  <a:pt x="141835" y="21600"/>
                </a:lnTo>
                <a:lnTo>
                  <a:pt x="140435" y="20200"/>
                </a:lnTo>
                <a:lnTo>
                  <a:pt x="140435" y="1400"/>
                </a:lnTo>
                <a:close/>
              </a:path>
              <a:path fill="darkenLess" w="141835" h="21600">
                <a:moveTo>
                  <a:pt x="1418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40435" y="20200"/>
                </a:lnTo>
                <a:close/>
              </a:path>
              <a:path fill="lighten" w="1418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7022880" cy="144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You have learned about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arrangement of the library and the books in each section:  picture books, chapter books (fiction), non-fiction, and biographi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itle, Spine, Cover,  and Author, and Illustrator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8" name="AutoShape 4">
            <a:hlinkClick r:id="" action="ppaction://hlinkshowjump?jump=nextslide"/>
          </p:cNvPr>
          <p:cNvSpPr/>
          <p:nvPr/>
        </p:nvSpPr>
        <p:spPr>
          <a:xfrm>
            <a:off x="3733920" y="5715000"/>
            <a:ext cx="1523880" cy="762120"/>
          </a:xfrm>
          <a:custGeom>
            <a:avLst/>
            <a:gdLst>
              <a:gd name="textAreaLeft" fmla="*/ 49320 w 1523880"/>
              <a:gd name="textAreaRight" fmla="*/ 1474560 w 15238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43180" h="21600">
                <a:moveTo>
                  <a:pt x="0" y="0"/>
                </a:moveTo>
                <a:lnTo>
                  <a:pt x="43180" y="0"/>
                </a:lnTo>
                <a:lnTo>
                  <a:pt x="43180" y="21600"/>
                </a:lnTo>
                <a:lnTo>
                  <a:pt x="0" y="21600"/>
                </a:lnTo>
                <a:close/>
              </a:path>
              <a:path fill="lightenLess" w="43180" h="21600">
                <a:moveTo>
                  <a:pt x="0" y="0"/>
                </a:moveTo>
                <a:lnTo>
                  <a:pt x="43180" y="0"/>
                </a:lnTo>
                <a:lnTo>
                  <a:pt x="41780" y="1400"/>
                </a:lnTo>
                <a:lnTo>
                  <a:pt x="1400" y="1400"/>
                </a:lnTo>
                <a:close/>
              </a:path>
              <a:path fill="darken" w="43180" h="21600">
                <a:moveTo>
                  <a:pt x="43180" y="0"/>
                </a:moveTo>
                <a:lnTo>
                  <a:pt x="43180" y="21600"/>
                </a:lnTo>
                <a:lnTo>
                  <a:pt x="41780" y="20200"/>
                </a:lnTo>
                <a:lnTo>
                  <a:pt x="41780" y="1400"/>
                </a:lnTo>
                <a:close/>
              </a:path>
              <a:path fill="darkenLess" w="43180" h="21600">
                <a:moveTo>
                  <a:pt x="431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0" y="20200"/>
                </a:lnTo>
                <a:close/>
              </a:path>
              <a:path fill="lighten" w="431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80" h="21600">
                <a:moveTo>
                  <a:pt x="14583" y="3794"/>
                </a:moveTo>
                <a:lnTo>
                  <a:pt x="28596" y="10800"/>
                </a:lnTo>
                <a:lnTo>
                  <a:pt x="14583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Keep up the good work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609800" y="1828800"/>
            <a:ext cx="37717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en you come to the library next time, you</a:t>
            </a:r>
            <a:r>
              <a:rPr b="0" lang="ja-JP" sz="2400" spc="-1" strike="noStrike">
                <a:solidFill>
                  <a:srgbClr val="000000"/>
                </a:solidFill>
                <a:latin typeface="Comic Sans MS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l know where to look for each type of book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ou</a:t>
            </a:r>
            <a:r>
              <a:rPr b="0" lang="ja-JP" sz="2400" spc="-1" strike="noStrike">
                <a:solidFill>
                  <a:srgbClr val="000000"/>
                </a:solidFill>
                <a:latin typeface="Comic Sans MS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l be able to find the books you want too, by knowing where to look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91" name="Picture 10" descr="j0232180[1]"/>
          <p:cNvPicPr/>
          <p:nvPr/>
        </p:nvPicPr>
        <p:blipFill>
          <a:blip r:embed="rId1"/>
          <a:stretch/>
        </p:blipFill>
        <p:spPr>
          <a:xfrm>
            <a:off x="1633680" y="2209680"/>
            <a:ext cx="2481120" cy="3048120"/>
          </a:xfrm>
          <a:prstGeom prst="rect">
            <a:avLst/>
          </a:prstGeom>
          <a:ln w="0">
            <a:noFill/>
          </a:ln>
        </p:spPr>
      </p:pic>
      <p:sp>
        <p:nvSpPr>
          <p:cNvPr id="492" name="AutoShape 11">
            <a:hlinkClick r:id="" action="ppaction://hlinkshowjump?jump=lastslide"/>
          </p:cNvPr>
          <p:cNvSpPr/>
          <p:nvPr/>
        </p:nvSpPr>
        <p:spPr>
          <a:xfrm>
            <a:off x="2362320" y="5562720"/>
            <a:ext cx="2361960" cy="914400"/>
          </a:xfrm>
          <a:custGeom>
            <a:avLst/>
            <a:gdLst>
              <a:gd name="textAreaLeft" fmla="*/ 59040 w 2361960"/>
              <a:gd name="textAreaRight" fmla="*/ 2302920 w 236196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55781" h="21600">
                <a:moveTo>
                  <a:pt x="0" y="0"/>
                </a:moveTo>
                <a:lnTo>
                  <a:pt x="55781" y="0"/>
                </a:lnTo>
                <a:lnTo>
                  <a:pt x="55781" y="21600"/>
                </a:lnTo>
                <a:lnTo>
                  <a:pt x="0" y="21600"/>
                </a:lnTo>
                <a:close/>
              </a:path>
              <a:path fill="lightenLess" w="55781" h="21600">
                <a:moveTo>
                  <a:pt x="0" y="0"/>
                </a:moveTo>
                <a:lnTo>
                  <a:pt x="55781" y="0"/>
                </a:lnTo>
                <a:lnTo>
                  <a:pt x="54381" y="1400"/>
                </a:lnTo>
                <a:lnTo>
                  <a:pt x="1400" y="1400"/>
                </a:lnTo>
                <a:close/>
              </a:path>
              <a:path fill="darken" w="55781" h="21600">
                <a:moveTo>
                  <a:pt x="55781" y="0"/>
                </a:moveTo>
                <a:lnTo>
                  <a:pt x="55781" y="21600"/>
                </a:lnTo>
                <a:lnTo>
                  <a:pt x="54381" y="20200"/>
                </a:lnTo>
                <a:lnTo>
                  <a:pt x="54381" y="1400"/>
                </a:lnTo>
                <a:close/>
              </a:path>
              <a:path fill="darkenLess" w="55781" h="21600">
                <a:moveTo>
                  <a:pt x="557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381" y="20200"/>
                </a:lnTo>
                <a:close/>
              </a:path>
              <a:path fill="lighten" w="557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781" h="21600">
                <a:moveTo>
                  <a:pt x="31389" y="10800"/>
                </a:moveTo>
                <a:lnTo>
                  <a:pt x="20884" y="17806"/>
                </a:lnTo>
                <a:lnTo>
                  <a:pt x="20884" y="3794"/>
                </a:lnTo>
                <a:close/>
              </a:path>
              <a:path fill="darken" w="55781" h="21600">
                <a:moveTo>
                  <a:pt x="33235" y="3794"/>
                </a:moveTo>
                <a:lnTo>
                  <a:pt x="33235" y="17806"/>
                </a:lnTo>
                <a:lnTo>
                  <a:pt x="34897" y="17806"/>
                </a:lnTo>
                <a:lnTo>
                  <a:pt x="34897" y="3794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You have reached the end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 look forward to hearing from you and working with you again soon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          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5" name="AutoShape 4">
            <a:hlinkClick r:id="" action="ppaction://hlinkshowjump?jump=firstslide"/>
          </p:cNvPr>
          <p:cNvSpPr/>
          <p:nvPr/>
        </p:nvSpPr>
        <p:spPr>
          <a:xfrm>
            <a:off x="3429000" y="5791320"/>
            <a:ext cx="1447920" cy="1066680"/>
          </a:xfrm>
          <a:custGeom>
            <a:avLst/>
            <a:gdLst>
              <a:gd name="textAreaLeft" fmla="*/ 69120 w 1447920"/>
              <a:gd name="textAreaRight" fmla="*/ 1378800 w 14479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9317" h="21600">
                <a:moveTo>
                  <a:pt x="0" y="0"/>
                </a:moveTo>
                <a:lnTo>
                  <a:pt x="29317" y="0"/>
                </a:lnTo>
                <a:lnTo>
                  <a:pt x="29317" y="21600"/>
                </a:lnTo>
                <a:lnTo>
                  <a:pt x="0" y="21600"/>
                </a:lnTo>
                <a:close/>
              </a:path>
              <a:path fill="lightenLess" w="29317" h="21600">
                <a:moveTo>
                  <a:pt x="0" y="0"/>
                </a:moveTo>
                <a:lnTo>
                  <a:pt x="29317" y="0"/>
                </a:lnTo>
                <a:lnTo>
                  <a:pt x="27917" y="1400"/>
                </a:lnTo>
                <a:lnTo>
                  <a:pt x="1400" y="1400"/>
                </a:lnTo>
                <a:close/>
              </a:path>
              <a:path fill="darken" w="29317" h="21600">
                <a:moveTo>
                  <a:pt x="29317" y="0"/>
                </a:moveTo>
                <a:lnTo>
                  <a:pt x="29317" y="21600"/>
                </a:lnTo>
                <a:lnTo>
                  <a:pt x="27917" y="20200"/>
                </a:lnTo>
                <a:lnTo>
                  <a:pt x="27917" y="1400"/>
                </a:lnTo>
                <a:close/>
              </a:path>
              <a:path fill="darkenLess" w="29317" h="21600">
                <a:moveTo>
                  <a:pt x="293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917" y="20200"/>
                </a:lnTo>
                <a:close/>
              </a:path>
              <a:path fill="lighten" w="293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317" h="21600">
                <a:moveTo>
                  <a:pt x="14659" y="3837"/>
                </a:moveTo>
                <a:lnTo>
                  <a:pt x="17235" y="6448"/>
                </a:lnTo>
                <a:lnTo>
                  <a:pt x="17235" y="4707"/>
                </a:lnTo>
                <a:lnTo>
                  <a:pt x="19011" y="4707"/>
                </a:lnTo>
                <a:lnTo>
                  <a:pt x="19011" y="8224"/>
                </a:lnTo>
                <a:lnTo>
                  <a:pt x="21622" y="10800"/>
                </a:lnTo>
                <a:lnTo>
                  <a:pt x="19968" y="10800"/>
                </a:lnTo>
                <a:lnTo>
                  <a:pt x="19968" y="17989"/>
                </a:lnTo>
                <a:lnTo>
                  <a:pt x="9349" y="17989"/>
                </a:lnTo>
                <a:lnTo>
                  <a:pt x="9349" y="10800"/>
                </a:lnTo>
                <a:lnTo>
                  <a:pt x="7696" y="10800"/>
                </a:lnTo>
                <a:close/>
              </a:path>
              <a:path fill="darkenLess" w="29317" h="21600">
                <a:moveTo>
                  <a:pt x="17235" y="6448"/>
                </a:moveTo>
                <a:lnTo>
                  <a:pt x="17235" y="4707"/>
                </a:lnTo>
                <a:lnTo>
                  <a:pt x="19011" y="4707"/>
                </a:lnTo>
                <a:lnTo>
                  <a:pt x="19011" y="8224"/>
                </a:lnTo>
                <a:close/>
              </a:path>
              <a:path fill="darkenLess" w="29317" h="21600">
                <a:moveTo>
                  <a:pt x="13736" y="14299"/>
                </a:moveTo>
                <a:lnTo>
                  <a:pt x="15581" y="14299"/>
                </a:lnTo>
                <a:lnTo>
                  <a:pt x="15581" y="17989"/>
                </a:lnTo>
                <a:lnTo>
                  <a:pt x="19968" y="17989"/>
                </a:lnTo>
                <a:lnTo>
                  <a:pt x="19968" y="10800"/>
                </a:lnTo>
                <a:lnTo>
                  <a:pt x="9349" y="10800"/>
                </a:lnTo>
                <a:lnTo>
                  <a:pt x="9349" y="17989"/>
                </a:lnTo>
                <a:lnTo>
                  <a:pt x="13736" y="17989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6" name="Text Box 5"/>
          <p:cNvSpPr/>
          <p:nvPr/>
        </p:nvSpPr>
        <p:spPr>
          <a:xfrm>
            <a:off x="5181480" y="5715000"/>
            <a:ext cx="190512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ere is one human spine and  four book spin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6" name="Picture 6" descr="book"/>
          <p:cNvPicPr/>
          <p:nvPr/>
        </p:nvPicPr>
        <p:blipFill>
          <a:blip r:embed="rId1"/>
          <a:stretch/>
        </p:blipFill>
        <p:spPr>
          <a:xfrm>
            <a:off x="5073480" y="1905120"/>
            <a:ext cx="2786400" cy="358128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21" descr="back-2"/>
          <p:cNvPicPr/>
          <p:nvPr/>
        </p:nvPicPr>
        <p:blipFill>
          <a:blip r:embed="rId2"/>
          <a:stretch/>
        </p:blipFill>
        <p:spPr>
          <a:xfrm>
            <a:off x="1415880" y="1828800"/>
            <a:ext cx="2310120" cy="3657600"/>
          </a:xfrm>
          <a:prstGeom prst="rect">
            <a:avLst/>
          </a:prstGeom>
          <a:ln w="0">
            <a:noFill/>
          </a:ln>
        </p:spPr>
      </p:pic>
      <p:sp>
        <p:nvSpPr>
          <p:cNvPr id="228" name="AutoShape 22">
            <a:hlinkClick r:id="" action="ppaction://hlinkshowjump?jump=nextslide"/>
          </p:cNvPr>
          <p:cNvSpPr/>
          <p:nvPr/>
        </p:nvSpPr>
        <p:spPr>
          <a:xfrm>
            <a:off x="3429000" y="5638680"/>
            <a:ext cx="1957320" cy="1219320"/>
          </a:xfrm>
          <a:custGeom>
            <a:avLst/>
            <a:gdLst>
              <a:gd name="textAreaLeft" fmla="*/ 78840 w 1957320"/>
              <a:gd name="textAreaRight" fmla="*/ 1878480 w 1957320"/>
              <a:gd name="textAreaTop" fmla="*/ 78840 h 1219320"/>
              <a:gd name="textAreaBottom" fmla="*/ 1140480 h 1219320"/>
            </a:gdLst>
            <a:ahLst/>
            <a:rect l="textAreaLeft" t="textAreaTop" r="textAreaRight" b="textAreaBottom"/>
            <a:pathLst>
              <a:path w="34670" h="21600">
                <a:moveTo>
                  <a:pt x="0" y="0"/>
                </a:moveTo>
                <a:lnTo>
                  <a:pt x="34670" y="0"/>
                </a:lnTo>
                <a:lnTo>
                  <a:pt x="34670" y="21600"/>
                </a:lnTo>
                <a:lnTo>
                  <a:pt x="0" y="21600"/>
                </a:lnTo>
                <a:close/>
              </a:path>
              <a:path fill="lightenLess" w="34670" h="21600">
                <a:moveTo>
                  <a:pt x="0" y="0"/>
                </a:moveTo>
                <a:lnTo>
                  <a:pt x="34670" y="0"/>
                </a:lnTo>
                <a:lnTo>
                  <a:pt x="33270" y="1400"/>
                </a:lnTo>
                <a:lnTo>
                  <a:pt x="1400" y="1400"/>
                </a:lnTo>
                <a:close/>
              </a:path>
              <a:path fill="darken" w="34670" h="21600">
                <a:moveTo>
                  <a:pt x="34670" y="0"/>
                </a:moveTo>
                <a:lnTo>
                  <a:pt x="34670" y="21600"/>
                </a:lnTo>
                <a:lnTo>
                  <a:pt x="33270" y="20200"/>
                </a:lnTo>
                <a:lnTo>
                  <a:pt x="33270" y="1400"/>
                </a:lnTo>
                <a:close/>
              </a:path>
              <a:path fill="darkenLess" w="34670" h="21600">
                <a:moveTo>
                  <a:pt x="346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270" y="20200"/>
                </a:lnTo>
                <a:close/>
              </a:path>
              <a:path fill="lighten" w="346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670" h="21600">
                <a:moveTo>
                  <a:pt x="10328" y="3794"/>
                </a:moveTo>
                <a:lnTo>
                  <a:pt x="24341" y="10800"/>
                </a:lnTo>
                <a:lnTo>
                  <a:pt x="10328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685800" y="1752120"/>
            <a:ext cx="37720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 spine is on the front of the book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re isn</a:t>
            </a:r>
            <a:r>
              <a:rPr b="0" lang="ja-JP" sz="2000" spc="-1" strike="noStrike">
                <a:solidFill>
                  <a:srgbClr val="000000"/>
                </a:solidFill>
                <a:latin typeface="Comic Sans MS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 usually a spine in picture books</a:t>
            </a:r>
            <a:r>
              <a:rPr b="0" lang="en-US" sz="20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_x000b_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 spine is the part that shows when the book is on the shelf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 spine can be where ever the librarian wants it to b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part of the book is the spine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31" name="Picture 9" descr=""/>
          <p:cNvPicPr/>
          <p:nvPr/>
        </p:nvPicPr>
        <p:blipFill>
          <a:blip r:embed="rId2"/>
          <a:stretch/>
        </p:blipFill>
        <p:spPr>
          <a:xfrm>
            <a:off x="4610160" y="2243160"/>
            <a:ext cx="3771720" cy="2828880"/>
          </a:xfrm>
          <a:prstGeom prst="rect">
            <a:avLst/>
          </a:prstGeom>
          <a:ln w="0">
            <a:noFill/>
          </a:ln>
        </p:spPr>
      </p:pic>
      <p:sp>
        <p:nvSpPr>
          <p:cNvPr id="232" name="AutoShape 10">
            <a:hlinkClick r:id="rId3" action="ppaction://hlinksldjump"/>
          </p:cNvPr>
          <p:cNvSpPr/>
          <p:nvPr/>
        </p:nvSpPr>
        <p:spPr>
          <a:xfrm>
            <a:off x="1066680" y="2514600"/>
            <a:ext cx="3200400" cy="685800"/>
          </a:xfrm>
          <a:custGeom>
            <a:avLst/>
            <a:gdLst>
              <a:gd name="textAreaLeft" fmla="*/ 44280 w 3200400"/>
              <a:gd name="textAreaRight" fmla="*/ 3156120 w 32004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100758" h="21600">
                <a:moveTo>
                  <a:pt x="0" y="0"/>
                </a:moveTo>
                <a:lnTo>
                  <a:pt x="100758" y="0"/>
                </a:lnTo>
                <a:lnTo>
                  <a:pt x="100758" y="21600"/>
                </a:lnTo>
                <a:lnTo>
                  <a:pt x="0" y="21600"/>
                </a:lnTo>
                <a:close/>
              </a:path>
              <a:path fill="lightenLess" w="100758" h="21600">
                <a:moveTo>
                  <a:pt x="0" y="0"/>
                </a:moveTo>
                <a:lnTo>
                  <a:pt x="100758" y="0"/>
                </a:lnTo>
                <a:lnTo>
                  <a:pt x="99359" y="1400"/>
                </a:lnTo>
                <a:lnTo>
                  <a:pt x="1400" y="1400"/>
                </a:lnTo>
                <a:close/>
              </a:path>
              <a:path fill="darken" w="100758" h="21600">
                <a:moveTo>
                  <a:pt x="100758" y="0"/>
                </a:moveTo>
                <a:lnTo>
                  <a:pt x="100758" y="21600"/>
                </a:lnTo>
                <a:lnTo>
                  <a:pt x="99359" y="20200"/>
                </a:lnTo>
                <a:lnTo>
                  <a:pt x="99359" y="1400"/>
                </a:lnTo>
                <a:close/>
              </a:path>
              <a:path fill="darkenLess" w="100758" h="21600">
                <a:moveTo>
                  <a:pt x="1007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359" y="20200"/>
                </a:lnTo>
                <a:close/>
              </a:path>
              <a:path fill="lighten" w="1007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AutoShape 11">
            <a:hlinkClick r:id="rId4" action="ppaction://hlinksldjump"/>
          </p:cNvPr>
          <p:cNvSpPr/>
          <p:nvPr/>
        </p:nvSpPr>
        <p:spPr>
          <a:xfrm>
            <a:off x="990720" y="1752480"/>
            <a:ext cx="3200400" cy="685800"/>
          </a:xfrm>
          <a:custGeom>
            <a:avLst/>
            <a:gdLst>
              <a:gd name="textAreaLeft" fmla="*/ 44280 w 3200400"/>
              <a:gd name="textAreaRight" fmla="*/ 3156120 w 32004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100758" h="21600">
                <a:moveTo>
                  <a:pt x="0" y="0"/>
                </a:moveTo>
                <a:lnTo>
                  <a:pt x="100758" y="0"/>
                </a:lnTo>
                <a:lnTo>
                  <a:pt x="100758" y="21600"/>
                </a:lnTo>
                <a:lnTo>
                  <a:pt x="0" y="21600"/>
                </a:lnTo>
                <a:close/>
              </a:path>
              <a:path fill="lightenLess" w="100758" h="21600">
                <a:moveTo>
                  <a:pt x="0" y="0"/>
                </a:moveTo>
                <a:lnTo>
                  <a:pt x="100758" y="0"/>
                </a:lnTo>
                <a:lnTo>
                  <a:pt x="99359" y="1400"/>
                </a:lnTo>
                <a:lnTo>
                  <a:pt x="1400" y="1400"/>
                </a:lnTo>
                <a:close/>
              </a:path>
              <a:path fill="darken" w="100758" h="21600">
                <a:moveTo>
                  <a:pt x="100758" y="0"/>
                </a:moveTo>
                <a:lnTo>
                  <a:pt x="100758" y="21600"/>
                </a:lnTo>
                <a:lnTo>
                  <a:pt x="99359" y="20200"/>
                </a:lnTo>
                <a:lnTo>
                  <a:pt x="99359" y="1400"/>
                </a:lnTo>
                <a:close/>
              </a:path>
              <a:path fill="darkenLess" w="100758" h="21600">
                <a:moveTo>
                  <a:pt x="1007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359" y="20200"/>
                </a:lnTo>
                <a:close/>
              </a:path>
              <a:path fill="lighten" w="1007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AutoShape 12">
            <a:hlinkClick r:id="rId5" action="ppaction://hlinksldjump"/>
          </p:cNvPr>
          <p:cNvSpPr/>
          <p:nvPr/>
        </p:nvSpPr>
        <p:spPr>
          <a:xfrm>
            <a:off x="990720" y="3200400"/>
            <a:ext cx="3352680" cy="1143000"/>
          </a:xfrm>
          <a:custGeom>
            <a:avLst/>
            <a:gdLst>
              <a:gd name="textAreaLeft" fmla="*/ 73800 w 3352680"/>
              <a:gd name="textAreaRight" fmla="*/ 3278880 w 33526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63345" h="21600">
                <a:moveTo>
                  <a:pt x="0" y="0"/>
                </a:moveTo>
                <a:lnTo>
                  <a:pt x="63345" y="0"/>
                </a:lnTo>
                <a:lnTo>
                  <a:pt x="63345" y="21600"/>
                </a:lnTo>
                <a:lnTo>
                  <a:pt x="0" y="21600"/>
                </a:lnTo>
                <a:close/>
              </a:path>
              <a:path fill="lightenLess" w="63345" h="21600">
                <a:moveTo>
                  <a:pt x="0" y="0"/>
                </a:moveTo>
                <a:lnTo>
                  <a:pt x="63345" y="0"/>
                </a:lnTo>
                <a:lnTo>
                  <a:pt x="61945" y="1400"/>
                </a:lnTo>
                <a:lnTo>
                  <a:pt x="1400" y="1400"/>
                </a:lnTo>
                <a:close/>
              </a:path>
              <a:path fill="darken" w="63345" h="21600">
                <a:moveTo>
                  <a:pt x="63345" y="0"/>
                </a:moveTo>
                <a:lnTo>
                  <a:pt x="63345" y="21600"/>
                </a:lnTo>
                <a:lnTo>
                  <a:pt x="61945" y="20200"/>
                </a:lnTo>
                <a:lnTo>
                  <a:pt x="61945" y="1400"/>
                </a:lnTo>
                <a:close/>
              </a:path>
              <a:path fill="darkenLess" w="63345" h="21600">
                <a:moveTo>
                  <a:pt x="633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1945" y="20200"/>
                </a:lnTo>
                <a:close/>
              </a:path>
              <a:path fill="lighten" w="633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AutoShape 13">
            <a:hlinkClick r:id="rId6" action="ppaction://hlinksldjump"/>
          </p:cNvPr>
          <p:cNvSpPr/>
          <p:nvPr/>
        </p:nvSpPr>
        <p:spPr>
          <a:xfrm>
            <a:off x="990720" y="4267080"/>
            <a:ext cx="3352680" cy="1143000"/>
          </a:xfrm>
          <a:custGeom>
            <a:avLst/>
            <a:gdLst>
              <a:gd name="textAreaLeft" fmla="*/ 73800 w 3352680"/>
              <a:gd name="textAreaRight" fmla="*/ 3278880 w 33526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63345" h="21600">
                <a:moveTo>
                  <a:pt x="0" y="0"/>
                </a:moveTo>
                <a:lnTo>
                  <a:pt x="63345" y="0"/>
                </a:lnTo>
                <a:lnTo>
                  <a:pt x="63345" y="21600"/>
                </a:lnTo>
                <a:lnTo>
                  <a:pt x="0" y="21600"/>
                </a:lnTo>
                <a:close/>
              </a:path>
              <a:path fill="lightenLess" w="63345" h="21600">
                <a:moveTo>
                  <a:pt x="0" y="0"/>
                </a:moveTo>
                <a:lnTo>
                  <a:pt x="63345" y="0"/>
                </a:lnTo>
                <a:lnTo>
                  <a:pt x="61945" y="1400"/>
                </a:lnTo>
                <a:lnTo>
                  <a:pt x="1400" y="1400"/>
                </a:lnTo>
                <a:close/>
              </a:path>
              <a:path fill="darken" w="63345" h="21600">
                <a:moveTo>
                  <a:pt x="63345" y="0"/>
                </a:moveTo>
                <a:lnTo>
                  <a:pt x="63345" y="21600"/>
                </a:lnTo>
                <a:lnTo>
                  <a:pt x="61945" y="20200"/>
                </a:lnTo>
                <a:lnTo>
                  <a:pt x="61945" y="1400"/>
                </a:lnTo>
                <a:close/>
              </a:path>
              <a:path fill="darkenLess" w="63345" h="21600">
                <a:moveTo>
                  <a:pt x="633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1945" y="20200"/>
                </a:lnTo>
                <a:close/>
              </a:path>
              <a:path fill="lighten" w="633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AutoShape 14">
            <a:hlinkClick r:id="rId7" action="ppaction://hlinksldjump"/>
          </p:cNvPr>
          <p:cNvSpPr/>
          <p:nvPr/>
        </p:nvSpPr>
        <p:spPr>
          <a:xfrm>
            <a:off x="1295280" y="3581280"/>
            <a:ext cx="3353040" cy="1143000"/>
          </a:xfrm>
          <a:custGeom>
            <a:avLst/>
            <a:gdLst>
              <a:gd name="textAreaLeft" fmla="*/ 73800 w 3353040"/>
              <a:gd name="textAreaRight" fmla="*/ 3279240 w 33530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63351" h="21600">
                <a:moveTo>
                  <a:pt x="0" y="0"/>
                </a:moveTo>
                <a:lnTo>
                  <a:pt x="63351" y="0"/>
                </a:lnTo>
                <a:lnTo>
                  <a:pt x="63351" y="21600"/>
                </a:lnTo>
                <a:lnTo>
                  <a:pt x="0" y="21600"/>
                </a:lnTo>
                <a:close/>
              </a:path>
              <a:path fill="lightenLess" w="63351" h="21600">
                <a:moveTo>
                  <a:pt x="0" y="0"/>
                </a:moveTo>
                <a:lnTo>
                  <a:pt x="63351" y="0"/>
                </a:lnTo>
                <a:lnTo>
                  <a:pt x="61951" y="1400"/>
                </a:lnTo>
                <a:lnTo>
                  <a:pt x="1400" y="1400"/>
                </a:lnTo>
                <a:close/>
              </a:path>
              <a:path fill="darken" w="63351" h="21600">
                <a:moveTo>
                  <a:pt x="63351" y="0"/>
                </a:moveTo>
                <a:lnTo>
                  <a:pt x="63351" y="21600"/>
                </a:lnTo>
                <a:lnTo>
                  <a:pt x="61951" y="20200"/>
                </a:lnTo>
                <a:lnTo>
                  <a:pt x="61951" y="1400"/>
                </a:lnTo>
                <a:close/>
              </a:path>
              <a:path fill="darkenLess" w="63351" h="21600">
                <a:moveTo>
                  <a:pt x="633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1951" y="20200"/>
                </a:lnTo>
                <a:close/>
              </a:path>
              <a:path fill="lighten" w="633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AutoShape 15">
            <a:hlinkClick r:id="" action="ppaction://hlinkshowjump?jump=nextslide"/>
          </p:cNvPr>
          <p:cNvSpPr/>
          <p:nvPr/>
        </p:nvSpPr>
        <p:spPr>
          <a:xfrm>
            <a:off x="3581280" y="5791320"/>
            <a:ext cx="1676520" cy="761760"/>
          </a:xfrm>
          <a:custGeom>
            <a:avLst/>
            <a:gdLst>
              <a:gd name="textAreaLeft" fmla="*/ 49320 w 1676520"/>
              <a:gd name="textAreaRight" fmla="*/ 1627200 w 167652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47526" h="21600">
                <a:moveTo>
                  <a:pt x="0" y="0"/>
                </a:moveTo>
                <a:lnTo>
                  <a:pt x="47526" y="0"/>
                </a:lnTo>
                <a:lnTo>
                  <a:pt x="47526" y="21600"/>
                </a:lnTo>
                <a:lnTo>
                  <a:pt x="0" y="21600"/>
                </a:lnTo>
                <a:close/>
              </a:path>
              <a:path fill="lightenLess" w="47526" h="21600">
                <a:moveTo>
                  <a:pt x="0" y="0"/>
                </a:moveTo>
                <a:lnTo>
                  <a:pt x="47526" y="0"/>
                </a:lnTo>
                <a:lnTo>
                  <a:pt x="46126" y="1400"/>
                </a:lnTo>
                <a:lnTo>
                  <a:pt x="1400" y="1400"/>
                </a:lnTo>
                <a:close/>
              </a:path>
              <a:path fill="darken" w="47526" h="21600">
                <a:moveTo>
                  <a:pt x="47526" y="0"/>
                </a:moveTo>
                <a:lnTo>
                  <a:pt x="47526" y="21600"/>
                </a:lnTo>
                <a:lnTo>
                  <a:pt x="46126" y="20200"/>
                </a:lnTo>
                <a:lnTo>
                  <a:pt x="46126" y="1400"/>
                </a:lnTo>
                <a:close/>
              </a:path>
              <a:path fill="darkenLess" w="47526" h="21600">
                <a:moveTo>
                  <a:pt x="475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126" y="20200"/>
                </a:lnTo>
                <a:close/>
              </a:path>
              <a:path fill="lighten" w="475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7526" h="21600">
                <a:moveTo>
                  <a:pt x="16757" y="3794"/>
                </a:moveTo>
                <a:lnTo>
                  <a:pt x="30770" y="10800"/>
                </a:lnTo>
                <a:lnTo>
                  <a:pt x="16757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Oops!  Read this again and then answer the question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2590560"/>
            <a:ext cx="769608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spine of a book is the part that you see when the book is on the shelf, and other books are alongside your book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AutoShape 4">
            <a:hlinkClick r:id="rId1" action="ppaction://hlinksldjump"/>
          </p:cNvPr>
          <p:cNvSpPr/>
          <p:nvPr/>
        </p:nvSpPr>
        <p:spPr>
          <a:xfrm>
            <a:off x="3809880" y="5410080"/>
            <a:ext cx="2133720" cy="1043280"/>
          </a:xfrm>
          <a:custGeom>
            <a:avLst/>
            <a:gdLst>
              <a:gd name="textAreaLeft" fmla="*/ 67320 w 2133720"/>
              <a:gd name="textAreaRight" fmla="*/ 2066400 w 21337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44169" h="21600">
                <a:moveTo>
                  <a:pt x="0" y="0"/>
                </a:moveTo>
                <a:lnTo>
                  <a:pt x="44169" y="0"/>
                </a:lnTo>
                <a:lnTo>
                  <a:pt x="44169" y="21600"/>
                </a:lnTo>
                <a:lnTo>
                  <a:pt x="0" y="21600"/>
                </a:lnTo>
                <a:close/>
              </a:path>
              <a:path fill="lightenLess" w="44169" h="21600">
                <a:moveTo>
                  <a:pt x="0" y="0"/>
                </a:moveTo>
                <a:lnTo>
                  <a:pt x="44169" y="0"/>
                </a:lnTo>
                <a:lnTo>
                  <a:pt x="42769" y="1400"/>
                </a:lnTo>
                <a:lnTo>
                  <a:pt x="1400" y="1400"/>
                </a:lnTo>
                <a:close/>
              </a:path>
              <a:path fill="darken" w="44169" h="21600">
                <a:moveTo>
                  <a:pt x="44169" y="0"/>
                </a:moveTo>
                <a:lnTo>
                  <a:pt x="44169" y="21600"/>
                </a:lnTo>
                <a:lnTo>
                  <a:pt x="42769" y="20200"/>
                </a:lnTo>
                <a:lnTo>
                  <a:pt x="42769" y="1400"/>
                </a:lnTo>
                <a:close/>
              </a:path>
              <a:path fill="darkenLess" w="44169" h="21600">
                <a:moveTo>
                  <a:pt x="441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2769" y="20200"/>
                </a:lnTo>
                <a:close/>
              </a:path>
              <a:path fill="lighten" w="441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lick here t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ry again!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8C1EF6B9.WAV" descr=""/>
          <p:cNvPicPr/>
          <p:nvPr/>
        </p:nvPicPr>
        <p:blipFill>
          <a:blip r:embed="rId1"/>
          <a:stretch/>
        </p:blipFill>
        <p:spPr>
          <a:xfrm>
            <a:off x="1295280" y="49528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Hip! Hip! Hurray!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43" name="Picture 3" descr="b0705"/>
          <p:cNvPicPr/>
          <p:nvPr/>
        </p:nvPicPr>
        <p:blipFill>
          <a:blip r:embed="rId2"/>
          <a:stretch/>
        </p:blipFill>
        <p:spPr>
          <a:xfrm>
            <a:off x="934920" y="1828800"/>
            <a:ext cx="3273480" cy="3657600"/>
          </a:xfrm>
          <a:prstGeom prst="rect">
            <a:avLst/>
          </a:prstGeom>
          <a:ln w="0">
            <a:noFill/>
          </a:ln>
        </p:spPr>
      </p:pic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609800" y="1828800"/>
            <a:ext cx="3771720" cy="36576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4400" spc="-1" strike="noStrike">
                <a:solidFill>
                  <a:srgbClr val="005000"/>
                </a:solidFill>
                <a:latin typeface="Comic Sans MS"/>
              </a:rPr>
              <a:t>You are</a:t>
            </a:r>
            <a:br>
              <a:rPr sz="4400"/>
            </a:br>
            <a:r>
              <a:rPr b="0" lang="en-US" sz="4400" spc="-1" strike="noStrike">
                <a:solidFill>
                  <a:srgbClr val="005000"/>
                </a:solidFill>
                <a:latin typeface="Comic Sans MS"/>
              </a:rPr>
              <a:t>correct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Excellent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" name="AutoShape 9">
            <a:hlinkClick r:id="" action="ppaction://hlinkshowjump?jump=nextslide"/>
          </p:cNvPr>
          <p:cNvSpPr/>
          <p:nvPr/>
        </p:nvSpPr>
        <p:spPr>
          <a:xfrm>
            <a:off x="3733920" y="5638680"/>
            <a:ext cx="1523880" cy="838440"/>
          </a:xfrm>
          <a:custGeom>
            <a:avLst/>
            <a:gdLst>
              <a:gd name="textAreaLeft" fmla="*/ 54360 w 1523880"/>
              <a:gd name="textAreaRight" fmla="*/ 1469520 w 152388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9251" h="21600">
                <a:moveTo>
                  <a:pt x="0" y="0"/>
                </a:moveTo>
                <a:lnTo>
                  <a:pt x="39251" y="0"/>
                </a:lnTo>
                <a:lnTo>
                  <a:pt x="39251" y="21600"/>
                </a:lnTo>
                <a:lnTo>
                  <a:pt x="0" y="21600"/>
                </a:lnTo>
                <a:close/>
              </a:path>
              <a:path fill="lightenLess" w="39251" h="21600">
                <a:moveTo>
                  <a:pt x="0" y="0"/>
                </a:moveTo>
                <a:lnTo>
                  <a:pt x="39251" y="0"/>
                </a:lnTo>
                <a:lnTo>
                  <a:pt x="37851" y="1400"/>
                </a:lnTo>
                <a:lnTo>
                  <a:pt x="1400" y="1400"/>
                </a:lnTo>
                <a:close/>
              </a:path>
              <a:path fill="darken" w="39251" h="21600">
                <a:moveTo>
                  <a:pt x="39251" y="0"/>
                </a:moveTo>
                <a:lnTo>
                  <a:pt x="39251" y="21600"/>
                </a:lnTo>
                <a:lnTo>
                  <a:pt x="37851" y="20200"/>
                </a:lnTo>
                <a:lnTo>
                  <a:pt x="37851" y="1400"/>
                </a:lnTo>
                <a:close/>
              </a:path>
              <a:path fill="darkenLess" w="39251" h="21600">
                <a:moveTo>
                  <a:pt x="392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851" y="20200"/>
                </a:lnTo>
                <a:close/>
              </a:path>
              <a:path fill="lighten" w="392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251" h="21600">
                <a:moveTo>
                  <a:pt x="12619" y="3794"/>
                </a:moveTo>
                <a:lnTo>
                  <a:pt x="26632" y="10800"/>
                </a:lnTo>
                <a:lnTo>
                  <a:pt x="12619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4T23:30:38Z</dcterms:created>
  <dc:creator>claudette curl</dc:creator>
  <dc:description/>
  <dc:language>en-US</dc:language>
  <cp:lastModifiedBy>Vicky Richardson</cp:lastModifiedBy>
  <dcterms:modified xsi:type="dcterms:W3CDTF">2014-05-07T19:30:55Z</dcterms:modified>
  <cp:revision>114</cp:revision>
  <dc:subject/>
  <dc:title>Slide 1</dc:title>
</cp:coreProperties>
</file>